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6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107.wmf" ContentType="image/x-wmf"/>
  <Override PartName="/ppt/media/image51.png" ContentType="image/png"/>
  <Override PartName="/ppt/media/image4.jpeg" ContentType="image/jpeg"/>
  <Override PartName="/ppt/media/image49.png" ContentType="image/png"/>
  <Override PartName="/ppt/media/image71.wmf" ContentType="image/x-wmf"/>
  <Override PartName="/ppt/media/image46.wmf" ContentType="image/x-wmf"/>
  <Override PartName="/ppt/media/image44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image59.jpeg" ContentType="image/jpeg"/>
  <Override PartName="/ppt/media/image39.wmf" ContentType="image/x-wmf"/>
  <Override PartName="/ppt/media/image47.jpeg" ContentType="image/jpeg"/>
  <Override PartName="/ppt/media/image25.wmf" ContentType="image/x-wmf"/>
  <Override PartName="/ppt/media/image3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81.jpeg" ContentType="image/jpeg"/>
  <Override PartName="/ppt/media/image31.jpeg" ContentType="image/jpeg"/>
  <Override PartName="/ppt/media/image28.wmf" ContentType="image/x-wmf"/>
  <Override PartName="/ppt/media/image37.wmf" ContentType="image/x-wmf"/>
  <Override PartName="/ppt/media/image12.jpeg" ContentType="image/jpeg"/>
  <Override PartName="/ppt/media/image30.jpeg" ContentType="image/jpeg"/>
  <Override PartName="/ppt/media/image18.wmf" ContentType="image/x-wmf"/>
  <Override PartName="/ppt/media/image52.png" ContentType="image/png"/>
  <Override PartName="/ppt/media/image106.wmf" ContentType="image/x-wmf"/>
  <Override PartName="/ppt/media/image13.wmf" ContentType="image/x-wmf"/>
  <Override PartName="/ppt/media/image54.wmf" ContentType="image/x-wmf"/>
  <Override PartName="/ppt/media/image10.jpeg" ContentType="image/jpeg"/>
  <Override PartName="/ppt/media/image5.wmf" ContentType="image/x-wmf"/>
  <Override PartName="/ppt/media/image17.wmf" ContentType="image/x-wmf"/>
  <Override PartName="/ppt/media/image86.jpeg" ContentType="image/jpeg"/>
  <Override PartName="/ppt/media/image41.wmf" ContentType="image/x-wmf"/>
  <Override PartName="/ppt/media/image8.jpeg" ContentType="image/jpeg"/>
  <Override PartName="/ppt/media/image91.png" ContentType="image/png"/>
  <Override PartName="/ppt/media/image50.png" ContentType="image/png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9.jpeg" ContentType="image/jpeg"/>
  <Override PartName="/ppt/media/image23.wmf" ContentType="image/x-wmf"/>
  <Override PartName="/ppt/media/image35.wmf" ContentType="image/x-wmf"/>
  <Override PartName="/ppt/media/image7.jpeg" ContentType="image/jpeg"/>
  <Override PartName="/ppt/media/image40.png" ContentType="image/png"/>
  <Override PartName="/ppt/media/image38.wmf" ContentType="image/x-wmf"/>
  <Override PartName="/ppt/media/image14.jpeg" ContentType="image/jpeg"/>
  <Override PartName="/ppt/media/image73.wmf" ContentType="image/x-wmf"/>
  <Override PartName="/ppt/media/image74.wmf" ContentType="image/x-wmf"/>
  <Override PartName="/ppt/media/image76.wmf" ContentType="image/x-wmf"/>
  <Override PartName="/ppt/media/image79.wmf" ContentType="image/x-wmf"/>
  <Override PartName="/ppt/media/image85.wmf" ContentType="image/x-wmf"/>
  <Override PartName="/ppt/media/image82.jpeg" ContentType="image/jpeg"/>
  <Override PartName="/ppt/media/image102.jpeg" ContentType="image/jpeg"/>
  <Override PartName="/ppt/media/image87.wmf" ContentType="image/x-wmf"/>
  <Override PartName="/ppt/media/image112.wmf" ContentType="image/x-wmf"/>
  <Override PartName="/ppt/media/image78.wmf" ContentType="image/x-wmf"/>
  <Override PartName="/ppt/media/image80.wmf" ContentType="image/x-wmf"/>
  <Override PartName="/ppt/media/image100.wmf" ContentType="image/x-wmf"/>
  <Override PartName="/ppt/media/image99.png" ContentType="image/png"/>
  <Override PartName="/ppt/media/image62.png" ContentType="image/png"/>
  <Override PartName="/ppt/media/image98.wmf" ContentType="image/x-wmf"/>
  <Override PartName="/ppt/media/image97.wmf" ContentType="image/x-wmf"/>
  <Override PartName="/ppt/media/image2.jpeg" ContentType="image/jpeg"/>
  <Override PartName="/ppt/media/image95.png" ContentType="image/png"/>
  <Override PartName="/ppt/media/image83.jpeg" ContentType="image/jpeg"/>
  <Override PartName="/ppt/media/image88.wmf" ContentType="image/x-wmf"/>
  <Override PartName="/ppt/media/image110.wmf" ContentType="image/x-wmf"/>
  <Override PartName="/ppt/media/image96.wmf" ContentType="image/x-wmf"/>
  <Override PartName="/ppt/media/image103.wmf" ContentType="image/x-wmf"/>
  <Override PartName="/ppt/media/image104.jpeg" ContentType="image/jpeg"/>
  <Override PartName="/ppt/media/image19.wmf" ContentType="image/x-wmf"/>
  <Override PartName="/ppt/media/image84.wmf" ContentType="image/x-wmf"/>
  <Override PartName="/ppt/media/image111.wmf" ContentType="image/x-wmf"/>
  <Override PartName="/ppt/media/image15.jpeg" ContentType="image/jpeg"/>
  <Override PartName="/ppt/media/image89.wmf" ContentType="image/x-wmf"/>
  <Override PartName="/ppt/media/image77.wmf" ContentType="image/x-wmf"/>
  <Override PartName="/ppt/media/image94.png" ContentType="image/png"/>
  <Override PartName="/ppt/media/image75.wmf" ContentType="image/x-wmf"/>
  <Override PartName="/ppt/media/image92.png" ContentType="image/png"/>
  <Override PartName="/ppt/media/image105.jpeg" ContentType="image/jpeg"/>
  <Override PartName="/ppt/media/image101.png" ContentType="image/png"/>
  <Override PartName="/ppt/media/image72.wmf" ContentType="image/x-wmf"/>
  <Override PartName="/ppt/media/image69.wmf" ContentType="image/x-wmf"/>
  <Override PartName="/ppt/media/image68.wmf" ContentType="image/x-wmf"/>
  <Override PartName="/ppt/media/image61.png" ContentType="image/png"/>
  <Override PartName="/ppt/media/image65.png" ContentType="image/png"/>
  <Override PartName="/ppt/media/image22.wmf" ContentType="image/x-wmf"/>
  <Override PartName="/ppt/media/image90.jpeg" ContentType="image/jpeg"/>
  <Override PartName="/ppt/media/image60.png" ContentType="image/png"/>
  <Override PartName="/ppt/media/image64.png" ContentType="image/png"/>
  <Override PartName="/ppt/media/image21.wmf" ContentType="image/x-wmf"/>
  <Override PartName="/ppt/media/image6.jpeg" ContentType="image/jpeg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67.png" ContentType="image/png"/>
  <Override PartName="/ppt/media/image26.wmf" ContentType="image/x-wmf"/>
  <Override PartName="/ppt/media/image66.gif" ContentType="image/gif"/>
  <Override PartName="/ppt/media/image16.wmf" ContentType="image/x-wmf"/>
  <Override PartName="/ppt/media/image70.wmf" ContentType="image/x-wmf"/>
  <Override PartName="/ppt/media/image45.jpeg" ContentType="image/jpeg"/>
  <Override PartName="/ppt/media/image55.png" ContentType="image/png"/>
  <Override PartName="/ppt/media/image10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5D6-F7BA-4F1A-A009-0B6BD438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683-2295-41C4-B3DB-B3D0C802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15E-5057-4B8E-B515-909A27BC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FE5-13FB-4A47-9D0B-94B9315B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82A-E981-4303-8E97-0AB897FD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C8C-1CCE-45D0-A253-CC94B468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C89-90D3-45CD-88FB-AB53D05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73F-6F49-432C-AD4F-D2C5181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105-7233-4257-BBC7-846D8FD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402-5490-412F-A9B7-15E93DC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144-BD11-4C99-9123-117EFE6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41D-65B1-47FC-8165-A9963F5A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7F2F-3DAC-4A1C-BBD4-9266225D6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16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2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image" Target="../media/image42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image" Target="../media/image46.wmf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3.png"/><Relationship Id="rId13" Type="http://schemas.openxmlformats.org/officeDocument/2006/relationships/hyperlink" Target="http://online.sc-cn.net/html/gif/yb/20040527011451(1).htm" TargetMode="External"/><Relationship Id="rId14" Type="http://schemas.openxmlformats.org/officeDocument/2006/relationships/image" Target="../media/image66.gif"/><Relationship Id="rId15" Type="http://schemas.openxmlformats.org/officeDocument/2006/relationships/slide" Target="slide7.xml"/><Relationship Id="rId16" Type="http://schemas.openxmlformats.org/officeDocument/2006/relationships/image" Target="../media/image67.png"/><Relationship Id="rId17" Type="http://schemas.openxmlformats.org/officeDocument/2006/relationships/slide" Target="slide7.xml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3.png"/><Relationship Id="rId11" Type="http://schemas.openxmlformats.org/officeDocument/2006/relationships/hyperlink" Target="http://online.sc-cn.net/html/gif/yb/20040527011451(1).htm" TargetMode="External"/><Relationship Id="rId12" Type="http://schemas.openxmlformats.org/officeDocument/2006/relationships/image" Target="../media/image66.gif"/><Relationship Id="rId13" Type="http://schemas.openxmlformats.org/officeDocument/2006/relationships/slide" Target="slide7.xml"/><Relationship Id="rId14" Type="http://schemas.openxmlformats.org/officeDocument/2006/relationships/image" Target="../media/image67.png"/><Relationship Id="rId15" Type="http://schemas.openxmlformats.org/officeDocument/2006/relationships/slide" Target="slide7.xml"/><Relationship Id="rId16" Type="http://schemas.openxmlformats.org/officeDocument/2006/relationships/slide" Target="slide20.xml"/><Relationship Id="rId17" Type="http://schemas.openxmlformats.org/officeDocument/2006/relationships/image" Target="../media/image56.jpeg"/><Relationship Id="rId18" Type="http://schemas.openxmlformats.org/officeDocument/2006/relationships/image" Target="../media/image68.wmf"/><Relationship Id="rId19" Type="http://schemas.openxmlformats.org/officeDocument/2006/relationships/image" Target="../media/image69.wmf"/><Relationship Id="rId20" Type="http://schemas.openxmlformats.org/officeDocument/2006/relationships/image" Target="../media/image70.wmf"/><Relationship Id="rId21" Type="http://schemas.openxmlformats.org/officeDocument/2006/relationships/image" Target="../media/image71.wmf"/><Relationship Id="rId22" Type="http://schemas.openxmlformats.org/officeDocument/2006/relationships/image" Target="../media/image72.wmf"/><Relationship Id="rId23" Type="http://schemas.openxmlformats.org/officeDocument/2006/relationships/image" Target="../media/image73.wmf"/><Relationship Id="rId24" Type="http://schemas.openxmlformats.org/officeDocument/2006/relationships/image" Target="../media/image74.wmf"/><Relationship Id="rId25" Type="http://schemas.openxmlformats.org/officeDocument/2006/relationships/image" Target="../media/image75.wmf"/><Relationship Id="rId26" Type="http://schemas.openxmlformats.org/officeDocument/2006/relationships/slide" Target="slide7.xml"/><Relationship Id="rId27" Type="http://schemas.openxmlformats.org/officeDocument/2006/relationships/image" Target="../media/image76.wmf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77.wmf"/><Relationship Id="rId10" Type="http://schemas.openxmlformats.org/officeDocument/2006/relationships/image" Target="../media/image78.wmf"/><Relationship Id="rId11" Type="http://schemas.openxmlformats.org/officeDocument/2006/relationships/image" Target="../media/image63.png"/><Relationship Id="rId12" Type="http://schemas.openxmlformats.org/officeDocument/2006/relationships/image" Target="../media/image64.png"/><Relationship Id="rId13" Type="http://schemas.openxmlformats.org/officeDocument/2006/relationships/image" Target="../media/image65.png"/><Relationship Id="rId14" Type="http://schemas.openxmlformats.org/officeDocument/2006/relationships/image" Target="../media/image63.png"/><Relationship Id="rId15" Type="http://schemas.openxmlformats.org/officeDocument/2006/relationships/image" Target="../media/image66.gif"/><Relationship Id="rId16" Type="http://schemas.openxmlformats.org/officeDocument/2006/relationships/image" Target="../media/image67.png"/><Relationship Id="rId17" Type="http://schemas.openxmlformats.org/officeDocument/2006/relationships/image" Target="../media/image79.wmf"/><Relationship Id="rId1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3.png"/><Relationship Id="rId12" Type="http://schemas.openxmlformats.org/officeDocument/2006/relationships/image" Target="../media/image66.gif"/><Relationship Id="rId13" Type="http://schemas.openxmlformats.org/officeDocument/2006/relationships/image" Target="../media/image67.png"/><Relationship Id="rId14" Type="http://schemas.openxmlformats.org/officeDocument/2006/relationships/image" Target="../media/image80.wmf"/><Relationship Id="rId15" Type="http://schemas.openxmlformats.org/officeDocument/2006/relationships/image" Target="../media/image81.jpeg"/><Relationship Id="rId16" Type="http://schemas.openxmlformats.org/officeDocument/2006/relationships/image" Target="../media/image8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jpeg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jpe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99.png"/><Relationship Id="rId12" Type="http://schemas.openxmlformats.org/officeDocument/2006/relationships/image" Target="../media/image100.wmf"/><Relationship Id="rId13" Type="http://schemas.openxmlformats.org/officeDocument/2006/relationships/image" Target="../media/image101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jpeg"/><Relationship Id="rId3" Type="http://schemas.openxmlformats.org/officeDocument/2006/relationships/image" Target="../media/image8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image" Target="../media/image10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image" Target="../media/image108.wmf"/><Relationship Id="rId5" Type="http://schemas.openxmlformats.org/officeDocument/2006/relationships/image" Target="../media/image109.wmf"/><Relationship Id="rId6" Type="http://schemas.openxmlformats.org/officeDocument/2006/relationships/image" Target="../media/image110.wmf"/><Relationship Id="rId7" Type="http://schemas.openxmlformats.org/officeDocument/2006/relationships/image" Target="../media/image111.wmf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27432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4.3.3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余角与补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741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715000" y="4575240"/>
            <a:ext cx="3657600" cy="22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838080" y="914400"/>
          <a:ext cx="647712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159280"/>
                <a:gridCol w="2286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155600"/>
            <a:ext cx="838080" cy="495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895480" y="1066680"/>
            <a:ext cx="2095560" cy="609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105520" y="1066680"/>
            <a:ext cx="2095560" cy="6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838080" y="4952880"/>
          <a:ext cx="6477120" cy="1011240"/>
        </p:xfrm>
        <a:graphic>
          <a:graphicData uri="http://schemas.openxmlformats.org/drawingml/2006/table">
            <a:tbl>
              <a:tblPr/>
              <a:tblGrid>
                <a:gridCol w="2036880"/>
                <a:gridCol w="2147760"/>
                <a:gridCol w="2292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523880" y="52578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3200400" y="51246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5257800" y="5105520"/>
            <a:ext cx="1638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68600" y="255600"/>
            <a:ext cx="1872360" cy="642600"/>
            <a:chOff x="768600" y="255600"/>
            <a:chExt cx="1872360" cy="642600"/>
          </a:xfrm>
        </p:grpSpPr>
        <p:sp>
          <p:nvSpPr>
            <p:cNvPr id="208" name=""/>
            <p:cNvSpPr/>
            <p:nvPr/>
          </p:nvSpPr>
          <p:spPr>
            <a:xfrm>
              <a:off x="768600" y="255600"/>
              <a:ext cx="187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帮     找朋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8"/>
            <a:stretch/>
          </p:blipFill>
          <p:spPr>
            <a:xfrm>
              <a:off x="850680" y="331560"/>
              <a:ext cx="838440" cy="49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1523880" y="2133720"/>
            <a:ext cx="609840" cy="541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657600" y="2133720"/>
            <a:ext cx="609480" cy="54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5765760" y="2133720"/>
            <a:ext cx="812880" cy="541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1523880" y="3124080"/>
            <a:ext cx="685800" cy="577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3657600" y="3124080"/>
            <a:ext cx="685800" cy="577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5719680" y="3124080"/>
            <a:ext cx="830520" cy="577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1219320" y="4114800"/>
            <a:ext cx="1193760" cy="596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3389400" y="4114800"/>
            <a:ext cx="1119240" cy="59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5451480" y="4114800"/>
            <a:ext cx="13431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10280" y="3657600"/>
            <a:ext cx="1865520" cy="2886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453960" y="0"/>
            <a:ext cx="2359080" cy="1496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3880" y="8380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76520"/>
            <a:ext cx="80168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个角的补角是它的余角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，求这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角的余角是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383920" y="2895480"/>
            <a:ext cx="4502880" cy="733680"/>
            <a:chOff x="2383920" y="2895480"/>
            <a:chExt cx="4502880" cy="733680"/>
          </a:xfrm>
        </p:grpSpPr>
        <p:sp>
          <p:nvSpPr>
            <p:cNvPr id="224" name=""/>
            <p:cNvSpPr/>
            <p:nvPr/>
          </p:nvSpPr>
          <p:spPr>
            <a:xfrm>
              <a:off x="2383920" y="3047760"/>
              <a:ext cx="450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解：设这个角的度数为    ，则依题意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5181480" y="2895480"/>
              <a:ext cx="57780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505240" y="3846600"/>
            <a:ext cx="3678120" cy="637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657600" y="4495680"/>
            <a:ext cx="1219320" cy="50328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2287440" y="5638680"/>
            <a:ext cx="4791240" cy="603720"/>
            <a:chOff x="2287440" y="5638680"/>
            <a:chExt cx="4791240" cy="603720"/>
          </a:xfrm>
        </p:grpSpPr>
        <p:sp>
          <p:nvSpPr>
            <p:cNvPr id="229" name=""/>
            <p:cNvSpPr/>
            <p:nvPr/>
          </p:nvSpPr>
          <p:spPr>
            <a:xfrm>
              <a:off x="2287440" y="5661000"/>
              <a:ext cx="35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：这个角的余角的度数为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>
              <a:off x="6248160" y="5638680"/>
              <a:ext cx="83052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2743200" y="4952880"/>
            <a:ext cx="3048120" cy="6001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914400" y="2843280"/>
            <a:ext cx="7086600" cy="1334520"/>
            <a:chOff x="914400" y="2843280"/>
            <a:chExt cx="7086600" cy="1334520"/>
          </a:xfrm>
        </p:grpSpPr>
        <p:sp>
          <p:nvSpPr>
            <p:cNvPr id="233" name=""/>
            <p:cNvSpPr/>
            <p:nvPr/>
          </p:nvSpPr>
          <p:spPr>
            <a:xfrm>
              <a:off x="914400" y="2908080"/>
              <a:ext cx="70866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另解：设这个角的余角的度数为  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则它的补角可设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8"/>
            <a:stretch/>
          </p:blipFill>
          <p:spPr>
            <a:xfrm>
              <a:off x="6661080" y="2843280"/>
              <a:ext cx="57780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>
              <a:off x="5465880" y="3457440"/>
              <a:ext cx="1871640" cy="72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3276720" y="4267080"/>
            <a:ext cx="2266920" cy="557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4191120" y="4800600"/>
            <a:ext cx="1282680" cy="5284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2440080" y="5562720"/>
            <a:ext cx="4790520" cy="603720"/>
            <a:chOff x="2440080" y="5562720"/>
            <a:chExt cx="4790520" cy="603720"/>
          </a:xfrm>
        </p:grpSpPr>
        <p:sp>
          <p:nvSpPr>
            <p:cNvPr id="239" name=""/>
            <p:cNvSpPr/>
            <p:nvPr/>
          </p:nvSpPr>
          <p:spPr>
            <a:xfrm>
              <a:off x="2440080" y="5585040"/>
              <a:ext cx="35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：这个角的余角的度数为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2"/>
            <a:stretch/>
          </p:blipFill>
          <p:spPr>
            <a:xfrm>
              <a:off x="6400440" y="5562720"/>
              <a:ext cx="83016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438280" y="2286000"/>
            <a:ext cx="6156360" cy="4105440"/>
            <a:chOff x="2438280" y="2286000"/>
            <a:chExt cx="6156360" cy="4105440"/>
          </a:xfrm>
        </p:grpSpPr>
        <p:grpSp>
          <p:nvGrpSpPr>
            <p:cNvPr id="242" name=""/>
            <p:cNvGrpSpPr/>
            <p:nvPr/>
          </p:nvGrpSpPr>
          <p:grpSpPr>
            <a:xfrm>
              <a:off x="2438280" y="3510000"/>
              <a:ext cx="6156360" cy="2115360"/>
              <a:chOff x="2438280" y="3510000"/>
              <a:chExt cx="6156360" cy="2115360"/>
            </a:xfrm>
          </p:grpSpPr>
          <p:sp>
            <p:nvSpPr>
              <p:cNvPr id="243" name=""/>
              <p:cNvSpPr/>
              <p:nvPr/>
            </p:nvSpPr>
            <p:spPr>
              <a:xfrm>
                <a:off x="3230280" y="3797280"/>
                <a:ext cx="2808360" cy="86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3560" y="4660920"/>
                <a:ext cx="2521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23000" y="487836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38280" y="3510000"/>
                <a:ext cx="57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751360" y="5165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62280" y="2286000"/>
              <a:ext cx="4608000" cy="4105440"/>
              <a:chOff x="3662280" y="2286000"/>
              <a:chExt cx="4608000" cy="4105440"/>
            </a:xfrm>
          </p:grpSpPr>
          <p:pic>
            <p:nvPicPr>
              <p:cNvPr id="2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62280" y="2790720"/>
                <a:ext cx="4608000" cy="3600720"/>
              </a:xfrm>
              <a:prstGeom prst="rect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62280" y="2286000"/>
                <a:ext cx="4608000" cy="3600360"/>
              </a:xfrm>
              <a:prstGeom prst="rect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</p:pic>
        </p:grpSp>
      </p:grpSp>
      <p:sp>
        <p:nvSpPr>
          <p:cNvPr id="251" name=""/>
          <p:cNvSpPr/>
          <p:nvPr/>
        </p:nvSpPr>
        <p:spPr>
          <a:xfrm>
            <a:off x="3124080" y="4648320"/>
            <a:ext cx="2808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4800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93840" y="1612800"/>
            <a:ext cx="8521560" cy="678600"/>
            <a:chOff x="393840" y="1612800"/>
            <a:chExt cx="8521560" cy="678600"/>
          </a:xfrm>
        </p:grpSpPr>
        <p:sp>
          <p:nvSpPr>
            <p:cNvPr id="254" name=""/>
            <p:cNvSpPr/>
            <p:nvPr/>
          </p:nvSpPr>
          <p:spPr>
            <a:xfrm>
              <a:off x="393840" y="1612800"/>
              <a:ext cx="85215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、如图两堵墙围一个角          ，但人不能进入围墙，我们如何去测量这个角的大小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4724640" y="1752480"/>
              <a:ext cx="1218960" cy="51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/>
          <p:cNvSpPr/>
          <p:nvPr/>
        </p:nvSpPr>
        <p:spPr>
          <a:xfrm flipH="1">
            <a:off x="5105520" y="441972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530280" y="4191120"/>
            <a:ext cx="2527200" cy="2666880"/>
            <a:chOff x="-530280" y="4191120"/>
            <a:chExt cx="2527200" cy="266688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-530280" y="4191120"/>
              <a:ext cx="25272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47120" y="5029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动动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-453960" y="0"/>
            <a:ext cx="2359080" cy="1496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3880" y="8380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048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629400" y="2819520"/>
            <a:ext cx="39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6960" y="29653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65960" y="1295280"/>
            <a:ext cx="2072880" cy="2464560"/>
            <a:chOff x="1065960" y="1295280"/>
            <a:chExt cx="2072880" cy="2464560"/>
          </a:xfrm>
        </p:grpSpPr>
        <p:sp>
          <p:nvSpPr>
            <p:cNvPr id="266" name=""/>
            <p:cNvSpPr/>
            <p:nvPr/>
          </p:nvSpPr>
          <p:spPr>
            <a:xfrm>
              <a:off x="1255680" y="3228840"/>
              <a:ext cx="1828800" cy="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241280" y="1683720"/>
              <a:ext cx="609480" cy="1552680"/>
            </a:xfrm>
            <a:prstGeom prst="line">
              <a:avLst/>
            </a:prstGeom>
            <a:ln cap="rnd"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71360" y="331776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520" y="129528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65960" y="3241440"/>
              <a:ext cx="287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3360" y="2895480"/>
              <a:ext cx="4564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99480" y="259056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733920" y="1295280"/>
            <a:ext cx="2400480" cy="3108960"/>
            <a:chOff x="3733920" y="1295280"/>
            <a:chExt cx="2400480" cy="3108960"/>
          </a:xfrm>
        </p:grpSpPr>
        <p:grpSp>
          <p:nvGrpSpPr>
            <p:cNvPr id="274" name=""/>
            <p:cNvGrpSpPr/>
            <p:nvPr/>
          </p:nvGrpSpPr>
          <p:grpSpPr>
            <a:xfrm>
              <a:off x="3733920" y="1295280"/>
              <a:ext cx="2400480" cy="3108960"/>
              <a:chOff x="3733920" y="1295280"/>
              <a:chExt cx="2400480" cy="310896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3733920" y="1295280"/>
                <a:ext cx="2400480" cy="2644920"/>
                <a:chOff x="3733920" y="1295280"/>
                <a:chExt cx="2400480" cy="26449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154400" y="3111480"/>
                  <a:ext cx="1694880" cy="828720"/>
                </a:xfrm>
                <a:prstGeom prst="line">
                  <a:avLst/>
                </a:prstGeom>
                <a:ln cap="rnd" w="39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4155840" y="1560240"/>
                  <a:ext cx="607680" cy="1524240"/>
                </a:xfrm>
                <a:prstGeom prst="line">
                  <a:avLst/>
                </a:prstGeom>
                <a:ln cap="rnd" w="39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>
                  <a:off x="4131720" y="1333440"/>
                  <a:ext cx="21960" cy="1776240"/>
                </a:xfrm>
                <a:prstGeom prst="line">
                  <a:avLst/>
                </a:prstGeom>
                <a:ln cap="rnd" w="39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497480" y="2568600"/>
                  <a:ext cx="2066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4360" y="2138400"/>
                  <a:ext cx="2066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804200" y="3081240"/>
                  <a:ext cx="2066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733920" y="1295280"/>
                  <a:ext cx="256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809600" y="1341360"/>
                  <a:ext cx="26748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798000" y="3117600"/>
                  <a:ext cx="28728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866920" y="3125520"/>
                  <a:ext cx="26748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35320" y="3112920"/>
                  <a:ext cx="1828440" cy="0"/>
                </a:xfrm>
                <a:prstGeom prst="line">
                  <a:avLst/>
                </a:prstGeom>
                <a:ln w="39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80240" y="2779560"/>
                  <a:ext cx="455760" cy="60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61480" y="2970720"/>
                  <a:ext cx="303120" cy="34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004280" y="2627280"/>
                  <a:ext cx="30312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638320" y="396216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133520" y="2895480"/>
              <a:ext cx="2091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289548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9440" y="49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5029200"/>
            <a:ext cx="9296280" cy="738000"/>
            <a:chOff x="0" y="5029200"/>
            <a:chExt cx="9296280" cy="738000"/>
          </a:xfrm>
        </p:grpSpPr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0" y="5124600"/>
              <a:ext cx="68580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57200" y="5124600"/>
              <a:ext cx="88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和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都是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余角，它们有什么关系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1233360" y="5124600"/>
              <a:ext cx="685800" cy="62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2895480" y="5029200"/>
              <a:ext cx="46368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3022560" cy="1357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3484440" y="5081760"/>
            <a:ext cx="1947960" cy="652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0" y="3733920"/>
            <a:ext cx="3048120" cy="3352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619080" y="5105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角的余角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143360" y="2514240"/>
            <a:ext cx="1294560" cy="1524240"/>
            <a:chOff x="1143360" y="2514240"/>
            <a:chExt cx="1294560" cy="1524240"/>
          </a:xfrm>
        </p:grpSpPr>
        <p:grpSp>
          <p:nvGrpSpPr>
            <p:cNvPr id="304" name=""/>
            <p:cNvGrpSpPr/>
            <p:nvPr/>
          </p:nvGrpSpPr>
          <p:grpSpPr>
            <a:xfrm>
              <a:off x="1294920" y="2514240"/>
              <a:ext cx="1143000" cy="1524240"/>
              <a:chOff x="1294920" y="2514240"/>
              <a:chExt cx="1143000" cy="152424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1294920" y="2895480"/>
                <a:ext cx="11430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295280" y="2514240"/>
                <a:ext cx="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143360" y="3809880"/>
              <a:ext cx="30384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5280" y="33526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553800" y="2514240"/>
            <a:ext cx="1294560" cy="1524240"/>
            <a:chOff x="6553800" y="2514240"/>
            <a:chExt cx="1294560" cy="1524240"/>
          </a:xfrm>
        </p:grpSpPr>
        <p:grpSp>
          <p:nvGrpSpPr>
            <p:cNvPr id="310" name=""/>
            <p:cNvGrpSpPr/>
            <p:nvPr/>
          </p:nvGrpSpPr>
          <p:grpSpPr>
            <a:xfrm>
              <a:off x="6705360" y="2514240"/>
              <a:ext cx="1143000" cy="1524240"/>
              <a:chOff x="6705360" y="2514240"/>
              <a:chExt cx="1143000" cy="1524240"/>
            </a:xfrm>
          </p:grpSpPr>
          <p:sp>
            <p:nvSpPr>
              <p:cNvPr id="311" name=""/>
              <p:cNvSpPr/>
              <p:nvPr/>
            </p:nvSpPr>
            <p:spPr>
              <a:xfrm flipH="1">
                <a:off x="6705360" y="2895480"/>
                <a:ext cx="11430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705720" y="2514240"/>
                <a:ext cx="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53800" y="3809880"/>
              <a:ext cx="30384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05720" y="3352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28440" y="2895480"/>
            <a:ext cx="1676880" cy="1294920"/>
            <a:chOff x="1828440" y="2895480"/>
            <a:chExt cx="1676880" cy="1294920"/>
          </a:xfrm>
        </p:grpSpPr>
        <p:sp>
          <p:nvSpPr>
            <p:cNvPr id="316" name=""/>
            <p:cNvSpPr/>
            <p:nvPr/>
          </p:nvSpPr>
          <p:spPr>
            <a:xfrm flipH="1">
              <a:off x="1828440" y="2895480"/>
              <a:ext cx="11430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40384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5120" y="3886200"/>
              <a:ext cx="151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19320" y="3668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95320" y="2895480"/>
            <a:ext cx="1676880" cy="1294920"/>
            <a:chOff x="4495320" y="2895480"/>
            <a:chExt cx="1676880" cy="1294920"/>
          </a:xfrm>
        </p:grpSpPr>
        <p:sp>
          <p:nvSpPr>
            <p:cNvPr id="321" name=""/>
            <p:cNvSpPr/>
            <p:nvPr/>
          </p:nvSpPr>
          <p:spPr>
            <a:xfrm flipH="1">
              <a:off x="4495320" y="2895480"/>
              <a:ext cx="11430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40384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2000" y="3886200"/>
              <a:ext cx="151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86200" y="3668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5438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152280" y="609480"/>
            <a:ext cx="1160280" cy="1008000"/>
            <a:chOff x="152280" y="609480"/>
            <a:chExt cx="1160280" cy="1008000"/>
          </a:xfrm>
        </p:grpSpPr>
        <p:grpSp>
          <p:nvGrpSpPr>
            <p:cNvPr id="327" name=""/>
            <p:cNvGrpSpPr/>
            <p:nvPr/>
          </p:nvGrpSpPr>
          <p:grpSpPr>
            <a:xfrm>
              <a:off x="152280" y="609480"/>
              <a:ext cx="1160280" cy="1008000"/>
              <a:chOff x="152280" y="609480"/>
              <a:chExt cx="1160280" cy="1008000"/>
            </a:xfrm>
          </p:grpSpPr>
          <p:pic>
            <p:nvPicPr>
              <p:cNvPr id="328" name="Oval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609480"/>
                <a:ext cx="11602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椭圆 71"/>
              <p:cNvSpPr/>
              <p:nvPr/>
            </p:nvSpPr>
            <p:spPr>
              <a:xfrm rot="19388400">
                <a:off x="340920" y="789480"/>
                <a:ext cx="531360" cy="316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23360" y="819360"/>
                <a:ext cx="622800" cy="543240"/>
                <a:chOff x="423360" y="819360"/>
                <a:chExt cx="622800" cy="543240"/>
              </a:xfrm>
            </p:grpSpPr>
            <p:pic>
              <p:nvPicPr>
                <p:cNvPr id="331" name="椭圆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3360" y="819360"/>
                  <a:ext cx="622800" cy="5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>
                  <a:off x="518400" y="901440"/>
                  <a:ext cx="43488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"/>
            <p:cNvSpPr/>
            <p:nvPr/>
          </p:nvSpPr>
          <p:spPr>
            <a:xfrm>
              <a:off x="327600" y="838080"/>
              <a:ext cx="84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553800" y="2514240"/>
            <a:ext cx="1294560" cy="1524240"/>
            <a:chOff x="6553800" y="2514240"/>
            <a:chExt cx="1294560" cy="1524240"/>
          </a:xfrm>
        </p:grpSpPr>
        <p:grpSp>
          <p:nvGrpSpPr>
            <p:cNvPr id="335" name=""/>
            <p:cNvGrpSpPr/>
            <p:nvPr/>
          </p:nvGrpSpPr>
          <p:grpSpPr>
            <a:xfrm>
              <a:off x="6705360" y="2514240"/>
              <a:ext cx="1143000" cy="1524240"/>
              <a:chOff x="6705360" y="2514240"/>
              <a:chExt cx="1143000" cy="152424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6705360" y="2895480"/>
                <a:ext cx="11430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6705720" y="2514240"/>
                <a:ext cx="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553800" y="3809880"/>
              <a:ext cx="30384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05720" y="3352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660680" y="49687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57400" y="5029200"/>
            <a:ext cx="4647960" cy="914400"/>
            <a:chOff x="2057400" y="5029200"/>
            <a:chExt cx="4647960" cy="914400"/>
          </a:xfrm>
        </p:grpSpPr>
        <p:sp>
          <p:nvSpPr>
            <p:cNvPr id="342" name=""/>
            <p:cNvSpPr/>
            <p:nvPr/>
          </p:nvSpPr>
          <p:spPr>
            <a:xfrm>
              <a:off x="3168360" y="5105520"/>
              <a:ext cx="353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等角的余角相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057400" y="5029200"/>
              <a:ext cx="1123920" cy="914400"/>
              <a:chOff x="2057400" y="5029200"/>
              <a:chExt cx="1123920" cy="914400"/>
            </a:xfrm>
          </p:grpSpPr>
          <p:pic>
            <p:nvPicPr>
              <p:cNvPr id="344" name="AutoShape 69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2003400" y="5083200"/>
                <a:ext cx="914400" cy="80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AutoShape 69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2320920" y="5083200"/>
                <a:ext cx="914400" cy="80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19981E-006 L -0.5901 4.19981E-006 E">
                                      <p:cBhvr>
                                        <p:cTn id="728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228600" y="609480"/>
            <a:ext cx="1142640" cy="1008000"/>
            <a:chOff x="228600" y="609480"/>
            <a:chExt cx="1142640" cy="1008000"/>
          </a:xfrm>
        </p:grpSpPr>
        <p:grpSp>
          <p:nvGrpSpPr>
            <p:cNvPr id="347" name=""/>
            <p:cNvGrpSpPr/>
            <p:nvPr/>
          </p:nvGrpSpPr>
          <p:grpSpPr>
            <a:xfrm>
              <a:off x="228600" y="609480"/>
              <a:ext cx="1142640" cy="1008000"/>
              <a:chOff x="228600" y="609480"/>
              <a:chExt cx="1142640" cy="1008000"/>
            </a:xfrm>
          </p:grpSpPr>
          <p:pic>
            <p:nvPicPr>
              <p:cNvPr id="348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609480"/>
                <a:ext cx="114264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椭圆 67"/>
              <p:cNvSpPr/>
              <p:nvPr/>
            </p:nvSpPr>
            <p:spPr>
              <a:xfrm rot="19388400">
                <a:off x="412920" y="789120"/>
                <a:ext cx="523080" cy="316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495360" y="819360"/>
                <a:ext cx="613440" cy="543240"/>
                <a:chOff x="495360" y="819360"/>
                <a:chExt cx="613440" cy="543240"/>
              </a:xfrm>
            </p:grpSpPr>
            <p:pic>
              <p:nvPicPr>
                <p:cNvPr id="351" name="椭圆 6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5360" y="819360"/>
                  <a:ext cx="613440" cy="54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"/>
                <p:cNvSpPr/>
                <p:nvPr/>
              </p:nvSpPr>
              <p:spPr>
                <a:xfrm>
                  <a:off x="587520" y="901080"/>
                  <a:ext cx="42840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"/>
            <p:cNvSpPr/>
            <p:nvPr/>
          </p:nvSpPr>
          <p:spPr>
            <a:xfrm>
              <a:off x="401040" y="838080"/>
              <a:ext cx="83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1346040" y="838080"/>
            <a:ext cx="7440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990720" y="3124080"/>
            <a:ext cx="2666880" cy="1599480"/>
            <a:chOff x="990720" y="3124080"/>
            <a:chExt cx="2666880" cy="1599480"/>
          </a:xfrm>
        </p:grpSpPr>
        <p:grpSp>
          <p:nvGrpSpPr>
            <p:cNvPr id="356" name=""/>
            <p:cNvGrpSpPr/>
            <p:nvPr/>
          </p:nvGrpSpPr>
          <p:grpSpPr>
            <a:xfrm>
              <a:off x="990720" y="3124080"/>
              <a:ext cx="2666880" cy="1295280"/>
              <a:chOff x="990720" y="3124080"/>
              <a:chExt cx="2666880" cy="1295280"/>
            </a:xfrm>
          </p:grpSpPr>
          <p:sp>
            <p:nvSpPr>
              <p:cNvPr id="357" name=""/>
              <p:cNvSpPr/>
              <p:nvPr/>
            </p:nvSpPr>
            <p:spPr>
              <a:xfrm>
                <a:off x="990720" y="441936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667240" y="3124080"/>
                <a:ext cx="99036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H="1">
              <a:off x="2438640" y="4114800"/>
              <a:ext cx="9136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7440" y="3886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982960" y="3130560"/>
            <a:ext cx="1676520" cy="1517400"/>
            <a:chOff x="2982960" y="3130560"/>
            <a:chExt cx="1676520" cy="1517400"/>
          </a:xfrm>
        </p:grpSpPr>
        <p:grpSp>
          <p:nvGrpSpPr>
            <p:cNvPr id="362" name=""/>
            <p:cNvGrpSpPr/>
            <p:nvPr/>
          </p:nvGrpSpPr>
          <p:grpSpPr>
            <a:xfrm>
              <a:off x="2982960" y="3130560"/>
              <a:ext cx="1676520" cy="1295280"/>
              <a:chOff x="2982960" y="3130560"/>
              <a:chExt cx="1676520" cy="1295280"/>
            </a:xfrm>
          </p:grpSpPr>
          <p:sp>
            <p:nvSpPr>
              <p:cNvPr id="363" name=""/>
              <p:cNvSpPr/>
              <p:nvPr/>
            </p:nvSpPr>
            <p:spPr>
              <a:xfrm>
                <a:off x="2982960" y="442584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982960" y="3130560"/>
                <a:ext cx="99072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124440" y="419112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4120" y="3962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800600" y="3124080"/>
            <a:ext cx="1676520" cy="1517400"/>
            <a:chOff x="4800600" y="3124080"/>
            <a:chExt cx="1676520" cy="1517400"/>
          </a:xfrm>
        </p:grpSpPr>
        <p:grpSp>
          <p:nvGrpSpPr>
            <p:cNvPr id="368" name=""/>
            <p:cNvGrpSpPr/>
            <p:nvPr/>
          </p:nvGrpSpPr>
          <p:grpSpPr>
            <a:xfrm>
              <a:off x="4800600" y="3124080"/>
              <a:ext cx="1676520" cy="1295280"/>
              <a:chOff x="4800600" y="3124080"/>
              <a:chExt cx="1676520" cy="1295280"/>
            </a:xfrm>
          </p:grpSpPr>
          <p:sp>
            <p:nvSpPr>
              <p:cNvPr id="369" name=""/>
              <p:cNvSpPr/>
              <p:nvPr/>
            </p:nvSpPr>
            <p:spPr>
              <a:xfrm>
                <a:off x="4800600" y="441936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800600" y="3124080"/>
                <a:ext cx="99072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4942080" y="418464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71760" y="3956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942880" y="3125520"/>
            <a:ext cx="2668320" cy="2041560"/>
            <a:chOff x="5942880" y="3125520"/>
            <a:chExt cx="2668320" cy="2041560"/>
          </a:xfrm>
        </p:grpSpPr>
        <p:sp>
          <p:nvSpPr>
            <p:cNvPr id="374" name=""/>
            <p:cNvSpPr/>
            <p:nvPr/>
          </p:nvSpPr>
          <p:spPr>
            <a:xfrm flipH="1" rot="3105600">
              <a:off x="6663240" y="4314600"/>
              <a:ext cx="9136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5942880" y="3125520"/>
              <a:ext cx="2668320" cy="1316520"/>
              <a:chOff x="5942880" y="3125520"/>
              <a:chExt cx="2668320" cy="131652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942880" y="3125520"/>
                <a:ext cx="2668320" cy="1316520"/>
                <a:chOff x="5942880" y="3125520"/>
                <a:chExt cx="2668320" cy="1316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42880" y="3125520"/>
                  <a:ext cx="1037880" cy="131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6980760" y="4417920"/>
                  <a:ext cx="1630440" cy="24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7088040" y="38862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2133720" y="5105160"/>
            <a:ext cx="4571640" cy="755640"/>
            <a:chOff x="2133720" y="5105160"/>
            <a:chExt cx="4571640" cy="755640"/>
          </a:xfrm>
        </p:grpSpPr>
        <p:sp>
          <p:nvSpPr>
            <p:cNvPr id="381" name=""/>
            <p:cNvSpPr/>
            <p:nvPr/>
          </p:nvSpPr>
          <p:spPr>
            <a:xfrm>
              <a:off x="3168720" y="5105520"/>
              <a:ext cx="35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等角的补角相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2133720" y="5105160"/>
              <a:ext cx="795960" cy="755640"/>
              <a:chOff x="2133720" y="5105160"/>
              <a:chExt cx="795960" cy="755640"/>
            </a:xfrm>
          </p:grpSpPr>
          <p:pic>
            <p:nvPicPr>
              <p:cNvPr id="383" name="燕尾形 22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2031480" y="5207400"/>
                <a:ext cx="755640" cy="5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燕尾形 22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2306880" y="5238000"/>
                <a:ext cx="755640" cy="48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24480" y="495288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625920" y="2843280"/>
            <a:ext cx="961920" cy="1028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rcRect l="0" t="0" r="-16380" b="-643"/>
          <a:stretch/>
        </p:blipFill>
        <p:spPr>
          <a:xfrm rot="20181600">
            <a:off x="3401640" y="2663640"/>
            <a:ext cx="630360" cy="4507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 rot="405600">
            <a:off x="4346280" y="2664000"/>
            <a:ext cx="247680" cy="523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6"/>
          <a:stretch/>
        </p:blipFill>
        <p:spPr>
          <a:xfrm rot="21474000">
            <a:off x="3897360" y="2528640"/>
            <a:ext cx="590400" cy="3142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7"/>
          <a:srcRect l="0" t="0" r="-1031" b="0"/>
          <a:stretch/>
        </p:blipFill>
        <p:spPr>
          <a:xfrm rot="450600">
            <a:off x="3897000" y="2708280"/>
            <a:ext cx="360360" cy="495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2424240" y="3747960"/>
            <a:ext cx="104760" cy="228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2997360" y="4599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5651640" y="3833640"/>
            <a:ext cx="171360" cy="66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1"/>
          <a:stretch/>
        </p:blipFill>
        <p:spPr>
          <a:xfrm>
            <a:off x="2502000" y="3743280"/>
            <a:ext cx="180720" cy="572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2"/>
          <a:stretch/>
        </p:blipFill>
        <p:spPr>
          <a:xfrm>
            <a:off x="5562720" y="3564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95680" y="1685880"/>
            <a:ext cx="1844640" cy="17082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176640" y="24955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398" name="">
            <a:hlinkClick r:id="rId17" action="ppaction://hlinksldjump"/>
          </p:cNvPr>
          <p:cNvSpPr/>
          <p:nvPr/>
        </p:nvSpPr>
        <p:spPr>
          <a:xfrm>
            <a:off x="7812000" y="5734080"/>
            <a:ext cx="936720" cy="574560"/>
          </a:xfrm>
          <a:custGeom>
            <a:avLst/>
            <a:gdLst>
              <a:gd name="textAreaLeft" fmla="*/ 163800 w 936720"/>
              <a:gd name="textAreaRight" fmla="*/ 679320 w 9367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11480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图中哪几对角是相等的角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直角除外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？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说明它们相等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144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图中有哪几对互余的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16002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与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互余 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与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互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66680" y="27432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与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互余 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与∠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互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61840" y="53341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=∠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87400" y="59151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=∠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214880" y="1066680"/>
            <a:ext cx="4929120" cy="3897720"/>
            <a:chOff x="4214880" y="1066680"/>
            <a:chExt cx="4929120" cy="3897720"/>
          </a:xfrm>
        </p:grpSpPr>
        <p:sp>
          <p:nvSpPr>
            <p:cNvPr id="406" name=""/>
            <p:cNvSpPr/>
            <p:nvPr/>
          </p:nvSpPr>
          <p:spPr>
            <a:xfrm flipV="1" rot="343200">
              <a:off x="7373160" y="1848600"/>
              <a:ext cx="3808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12" y="579"/>
                  </a:moveTo>
                  <a:arcTo wR="10800" hR="10800" stAng="-6530473" swAng="6530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12" y="579"/>
                  </a:moveTo>
                  <a:arcTo wR="10800" hR="10800" stAng="-6530473" swAng="653047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214880" y="1066680"/>
              <a:ext cx="4929120" cy="3897720"/>
              <a:chOff x="4214880" y="1066680"/>
              <a:chExt cx="4929120" cy="3897720"/>
            </a:xfrm>
          </p:grpSpPr>
          <p:sp>
            <p:nvSpPr>
              <p:cNvPr id="408" name=""/>
              <p:cNvSpPr/>
              <p:nvPr/>
            </p:nvSpPr>
            <p:spPr>
              <a:xfrm>
                <a:off x="7485120" y="1636560"/>
                <a:ext cx="9360" cy="167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4214880" y="1066680"/>
                <a:ext cx="4929120" cy="3897720"/>
                <a:chOff x="4214880" y="1066680"/>
                <a:chExt cx="4929120" cy="38977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4214880" y="2976480"/>
                  <a:ext cx="4929120" cy="897480"/>
                  <a:chOff x="4214880" y="2976480"/>
                  <a:chExt cx="4929120" cy="8974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8329680" y="3081240"/>
                    <a:ext cx="8143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7508880" y="2976480"/>
                    <a:ext cx="390240" cy="337680"/>
                    <a:chOff x="7508880" y="2976480"/>
                    <a:chExt cx="390240" cy="33768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7508880" y="2976480"/>
                      <a:ext cx="3902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7899120" y="2976480"/>
                      <a:ext cx="0" cy="33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4214880" y="3292560"/>
                    <a:ext cx="3911760" cy="581400"/>
                    <a:chOff x="4214880" y="3292560"/>
                    <a:chExt cx="3911760" cy="58140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4214880" y="3292560"/>
                      <a:ext cx="81432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7311960" y="3298680"/>
                      <a:ext cx="8146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4293360" y="1066680"/>
                  <a:ext cx="4064400" cy="3897720"/>
                  <a:chOff x="4293360" y="1066680"/>
                  <a:chExt cx="4064400" cy="38977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6985080" y="1654560"/>
                    <a:ext cx="961920" cy="60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491" y="80"/>
                        </a:moveTo>
                        <a:arcTo wR="10800" hR="10800" stAng="-5817783" swAng="685179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491" y="80"/>
                        </a:moveTo>
                        <a:arcTo wR="10800" hR="10800" stAng="-5817783" swAng="6851799"/>
                      </a:path>
                    </a:pathLst>
                  </a:custGeom>
                  <a:noFill/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4293360" y="1066680"/>
                    <a:ext cx="4064400" cy="3897720"/>
                    <a:chOff x="4293360" y="1066680"/>
                    <a:chExt cx="4064400" cy="3897720"/>
                  </a:xfrm>
                </p:grpSpPr>
                <p:grpSp>
                  <p:nvGrpSpPr>
                    <p:cNvPr id="421" name=""/>
                    <p:cNvGrpSpPr/>
                    <p:nvPr/>
                  </p:nvGrpSpPr>
                  <p:grpSpPr>
                    <a:xfrm>
                      <a:off x="7130880" y="1763640"/>
                      <a:ext cx="504360" cy="364320"/>
                      <a:chOff x="7130880" y="1763640"/>
                      <a:chExt cx="504360" cy="364320"/>
                    </a:xfrm>
                  </p:grpSpPr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7130880" y="1763640"/>
                        <a:ext cx="170640" cy="3643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 flipV="1">
                        <a:off x="7301520" y="1943280"/>
                        <a:ext cx="333720" cy="1843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4" name=""/>
                    <p:cNvSpPr/>
                    <p:nvPr/>
                  </p:nvSpPr>
                  <p:spPr>
                    <a:xfrm rot="9132600">
                      <a:off x="4525200" y="2347920"/>
                      <a:ext cx="3600360" cy="1885680"/>
                    </a:xfrm>
                    <a:prstGeom prst="rtTriangl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261200" y="1066680"/>
                      <a:ext cx="81612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7477200" y="2217600"/>
                      <a:ext cx="576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6680160" y="2095560"/>
                      <a:ext cx="57636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8" name=""/>
          <p:cNvSpPr/>
          <p:nvPr/>
        </p:nvSpPr>
        <p:spPr>
          <a:xfrm>
            <a:off x="2462040" y="528336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（同角的余角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49440" y="58802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（同角的余角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37160" y="2286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认真观察下面的图形，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2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7 C 0.06111 -0.00301 0.12257 -0.00555 0.1448 0.01711 C 0.16736 0.04023 0.13073 0.11214 0.13351 0.13919 C 0.13629 0.16647 0.15695 0.17341 0.16164 0.18035 E">
                                      <p:cBhvr>
                                        <p:cTn id="818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8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8 7.51445E-007 C -0.08281 0.00763 -0.09166 0.01618 -0.0927 0.04116 C -0.0934 0.06682 -0.08107 0.12578 -0.07968 0.15168 C -0.07847 0.17896 -0.08368 0.19144 -0.08472 0.20324 E">
                                      <p:cBhvr>
                                        <p:cTn id="822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7283E-006 L -0.04219 0.2918 E">
                                      <p:cBhvr>
                                        <p:cTn id="826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3.7037E-007 C 0.03455 0.03032 0.05364 0.06065 0.05677 0.10093 C 0.06024 0.14167 0.04774 0.19236 0.03542 0.24375 E">
                                      <p:cBhvr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4" dur="5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6" dur="5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8" dur="500" fill="hold"/>
                                        <p:tgtEl>
                                          <p:spTgt spid="38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0" dur="5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2" dur="500" fill="hold"/>
                                        <p:tgtEl>
                                          <p:spTgt spid="38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2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3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4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5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6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7"/>
                            </p:stCondLst>
                            <p:childTnLst>
                              <p:par>
                                <p:cTn id="8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7"/>
                            </p:stCondLst>
                            <p:childTnLst>
                              <p:par>
                                <p:cTn id="8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507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625920" y="2843280"/>
            <a:ext cx="961920" cy="1028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0" t="0" r="-16380" b="-643"/>
          <a:stretch/>
        </p:blipFill>
        <p:spPr>
          <a:xfrm rot="20181600">
            <a:off x="3401640" y="2663640"/>
            <a:ext cx="630360" cy="450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 rot="405600">
            <a:off x="4346280" y="2664000"/>
            <a:ext cx="247680" cy="5238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 rot="21474000">
            <a:off x="3897360" y="2528640"/>
            <a:ext cx="590400" cy="3142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rcRect l="0" t="0" r="-1031" b="0"/>
          <a:stretch/>
        </p:blipFill>
        <p:spPr>
          <a:xfrm rot="450600">
            <a:off x="3897000" y="2708280"/>
            <a:ext cx="360360" cy="495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2424240" y="3747960"/>
            <a:ext cx="104760" cy="2286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2997360" y="4599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5651640" y="3833640"/>
            <a:ext cx="171360" cy="669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"/>
          <a:stretch/>
        </p:blipFill>
        <p:spPr>
          <a:xfrm>
            <a:off x="2502000" y="3743280"/>
            <a:ext cx="180720" cy="572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5562720" y="3564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95680" y="1685880"/>
            <a:ext cx="1844640" cy="17082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176640" y="24955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rId15" action="ppaction://hlinksldjump"/>
          </p:cNvPr>
          <p:cNvSpPr/>
          <p:nvPr/>
        </p:nvSpPr>
        <p:spPr>
          <a:xfrm>
            <a:off x="7812000" y="5734080"/>
            <a:ext cx="936720" cy="574560"/>
          </a:xfrm>
          <a:custGeom>
            <a:avLst/>
            <a:gdLst>
              <a:gd name="textAreaLeft" fmla="*/ 163800 w 936720"/>
              <a:gd name="textAreaRight" fmla="*/ 679320 w 9367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324480" y="4952880"/>
            <a:ext cx="24386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33520" y="609480"/>
            <a:ext cx="8610480" cy="1267200"/>
            <a:chOff x="533520" y="609480"/>
            <a:chExt cx="8610480" cy="1267200"/>
          </a:xfrm>
        </p:grpSpPr>
        <p:sp>
          <p:nvSpPr>
            <p:cNvPr id="446" name=""/>
            <p:cNvSpPr/>
            <p:nvPr/>
          </p:nvSpPr>
          <p:spPr>
            <a:xfrm>
              <a:off x="533520" y="609480"/>
              <a:ext cx="861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已知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OB=90°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 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OC= ∠BO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840" y="1295280"/>
              <a:ext cx="725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则与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O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互余的角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________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" descr=""/>
          <p:cNvPicPr/>
          <p:nvPr/>
        </p:nvPicPr>
        <p:blipFill>
          <a:blip r:embed="rId18"/>
          <a:stretch/>
        </p:blipFill>
        <p:spPr>
          <a:xfrm>
            <a:off x="457200" y="2133720"/>
            <a:ext cx="3575160" cy="3657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73560" y="4495680"/>
            <a:ext cx="4816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30560" y="4962600"/>
            <a:ext cx="269280" cy="43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191120" y="3124080"/>
            <a:ext cx="4952880" cy="1093680"/>
            <a:chOff x="4191120" y="3124080"/>
            <a:chExt cx="4952880" cy="1093680"/>
          </a:xfrm>
        </p:grpSpPr>
        <p:pic>
          <p:nvPicPr>
            <p:cNvPr id="452" name="" descr=""/>
            <p:cNvPicPr/>
            <p:nvPr/>
          </p:nvPicPr>
          <p:blipFill>
            <a:blip r:embed="rId19"/>
            <a:stretch/>
          </p:blipFill>
          <p:spPr>
            <a:xfrm>
              <a:off x="4191120" y="3124080"/>
              <a:ext cx="495288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20"/>
            <a:stretch/>
          </p:blipFill>
          <p:spPr>
            <a:xfrm>
              <a:off x="4191120" y="3733560"/>
              <a:ext cx="350532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4" name=""/>
          <p:cNvGrpSpPr/>
          <p:nvPr/>
        </p:nvGrpSpPr>
        <p:grpSpPr>
          <a:xfrm>
            <a:off x="3581280" y="1981080"/>
            <a:ext cx="5562720" cy="1103400"/>
            <a:chOff x="3581280" y="1981080"/>
            <a:chExt cx="5562720" cy="1103400"/>
          </a:xfrm>
        </p:grpSpPr>
        <p:pic>
          <p:nvPicPr>
            <p:cNvPr id="455" name="" descr=""/>
            <p:cNvPicPr/>
            <p:nvPr/>
          </p:nvPicPr>
          <p:blipFill>
            <a:blip r:embed="rId21"/>
            <a:stretch/>
          </p:blipFill>
          <p:spPr>
            <a:xfrm>
              <a:off x="3581280" y="1981080"/>
              <a:ext cx="556272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22"/>
            <a:stretch/>
          </p:blipFill>
          <p:spPr>
            <a:xfrm>
              <a:off x="4190760" y="2590560"/>
              <a:ext cx="3581640" cy="49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7" name="" descr=""/>
          <p:cNvPicPr/>
          <p:nvPr/>
        </p:nvPicPr>
        <p:blipFill>
          <a:blip r:embed="rId23"/>
          <a:stretch/>
        </p:blipFill>
        <p:spPr>
          <a:xfrm>
            <a:off x="4191120" y="434340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4"/>
          <a:stretch/>
        </p:blipFill>
        <p:spPr>
          <a:xfrm>
            <a:off x="4191120" y="4876920"/>
            <a:ext cx="3163680" cy="10872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5"/>
          <a:stretch/>
        </p:blipFill>
        <p:spPr>
          <a:xfrm>
            <a:off x="1600200" y="6019920"/>
            <a:ext cx="5486400" cy="48240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rId26" action="ppaction://hlinksldjump"/>
          </p:cNvPr>
          <p:cNvSpPr/>
          <p:nvPr/>
        </p:nvSpPr>
        <p:spPr>
          <a:xfrm>
            <a:off x="7964640" y="5886360"/>
            <a:ext cx="936360" cy="574920"/>
          </a:xfrm>
          <a:custGeom>
            <a:avLst/>
            <a:gdLst>
              <a:gd name="textAreaLeft" fmla="*/ 163800 w 936360"/>
              <a:gd name="textAreaRight" fmla="*/ 678960 w 936360"/>
              <a:gd name="textAreaTop" fmla="*/ 77040 h 574920"/>
              <a:gd name="textAreaBottom" fmla="*/ 4978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7"/>
          <a:stretch/>
        </p:blipFill>
        <p:spPr>
          <a:xfrm>
            <a:off x="4800600" y="1219320"/>
            <a:ext cx="2889360" cy="52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2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7 C 0.06111 -0.00301 0.12257 -0.00555 0.1448 0.01711 C 0.16736 0.04023 0.13073 0.11214 0.13351 0.13919 C 0.13629 0.16647 0.15695 0.17341 0.16164 0.18035 E">
                                      <p:cBhvr>
                                        <p:cTn id="962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9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8 7.51445E-007 C -0.08281 0.00763 -0.09166 0.01618 -0.0927 0.04116 C -0.0934 0.06682 -0.08107 0.12578 -0.07968 0.15168 C -0.07847 0.17896 -0.08368 0.19144 -0.08472 0.20324 E">
                                      <p:cBhvr>
                                        <p:cTn id="966" dur="5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7283E-006 L -0.04219 0.2918 E">
                                      <p:cBhvr>
                                        <p:cTn id="970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3.7037E-007 C 0.03455 0.03032 0.05364 0.06065 0.05677 0.10093 C 0.06024 0.14167 0.04774 0.19236 0.03542 0.24375 E">
                                      <p:cBhvr>
                                        <p:cTn id="976" dur="5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8" dur="500" fill="hold"/>
                                        <p:tgtEl>
                                          <p:spTgt spid="43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0" dur="500" fill="hold"/>
                                        <p:tgtEl>
                                          <p:spTgt spid="4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2" dur="500" fill="hold"/>
                                        <p:tgtEl>
                                          <p:spTgt spid="43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4" dur="500" fill="hold"/>
                                        <p:tgtEl>
                                          <p:spTgt spid="43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6" dur="500" fill="hold"/>
                                        <p:tgtEl>
                                          <p:spTgt spid="4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2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3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4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5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506"/>
                            </p:stCondLst>
                            <p:childTnLst>
                              <p:par>
                                <p:cTn id="10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7"/>
                            </p:stCondLst>
                            <p:childTnLst>
                              <p:par>
                                <p:cTn id="10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7"/>
                            </p:stCondLst>
                            <p:childTnLst>
                              <p:par>
                                <p:cTn id="10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507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24480" y="495288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3625920" y="2843280"/>
            <a:ext cx="961920" cy="10285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rcRect l="0" t="0" r="-16380" b="-643"/>
          <a:stretch/>
        </p:blipFill>
        <p:spPr>
          <a:xfrm rot="20181600">
            <a:off x="3401640" y="2663640"/>
            <a:ext cx="630360" cy="4507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 rot="405600">
            <a:off x="4346280" y="2664000"/>
            <a:ext cx="247680" cy="523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6"/>
          <a:stretch/>
        </p:blipFill>
        <p:spPr>
          <a:xfrm rot="21474000">
            <a:off x="3897360" y="2528640"/>
            <a:ext cx="590400" cy="3142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7"/>
          <a:srcRect l="0" t="0" r="-1031" b="0"/>
          <a:stretch/>
        </p:blipFill>
        <p:spPr>
          <a:xfrm rot="450600">
            <a:off x="3897000" y="2708280"/>
            <a:ext cx="360360" cy="495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8"/>
          <a:stretch/>
        </p:blipFill>
        <p:spPr>
          <a:xfrm>
            <a:off x="2424240" y="2577960"/>
            <a:ext cx="104760" cy="228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9"/>
          <a:stretch/>
        </p:blipFill>
        <p:spPr>
          <a:xfrm>
            <a:off x="1295280" y="5181480"/>
            <a:ext cx="5715000" cy="567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0"/>
          <a:stretch/>
        </p:blipFill>
        <p:spPr>
          <a:xfrm>
            <a:off x="1295280" y="4546440"/>
            <a:ext cx="5639040" cy="5810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1"/>
          <a:stretch/>
        </p:blipFill>
        <p:spPr>
          <a:xfrm>
            <a:off x="2997360" y="4599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5651640" y="3833640"/>
            <a:ext cx="171360" cy="669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3"/>
          <a:stretch/>
        </p:blipFill>
        <p:spPr>
          <a:xfrm>
            <a:off x="2502000" y="3743280"/>
            <a:ext cx="180720" cy="572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4"/>
          <a:stretch/>
        </p:blipFill>
        <p:spPr>
          <a:xfrm>
            <a:off x="5562720" y="3564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5"/>
          <a:stretch/>
        </p:blipFill>
        <p:spPr>
          <a:xfrm>
            <a:off x="3595680" y="1685880"/>
            <a:ext cx="1844640" cy="17082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6"/>
          <a:stretch/>
        </p:blipFill>
        <p:spPr>
          <a:xfrm>
            <a:off x="3176640" y="24955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812000" y="5734080"/>
            <a:ext cx="936720" cy="574560"/>
          </a:xfrm>
          <a:custGeom>
            <a:avLst/>
            <a:gdLst>
              <a:gd name="textAreaLeft" fmla="*/ 163800 w 936720"/>
              <a:gd name="textAreaRight" fmla="*/ 679320 w 9367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57200" y="838080"/>
            <a:ext cx="3352680" cy="2822040"/>
            <a:chOff x="457200" y="838080"/>
            <a:chExt cx="3352680" cy="2822040"/>
          </a:xfrm>
        </p:grpSpPr>
        <p:sp>
          <p:nvSpPr>
            <p:cNvPr id="479" name=""/>
            <p:cNvSpPr/>
            <p:nvPr/>
          </p:nvSpPr>
          <p:spPr>
            <a:xfrm>
              <a:off x="457200" y="312408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57200" y="838080"/>
              <a:ext cx="3352680" cy="2822040"/>
              <a:chOff x="457200" y="838080"/>
              <a:chExt cx="3352680" cy="282204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1219320" y="1143000"/>
                <a:ext cx="838080" cy="1981080"/>
                <a:chOff x="1219320" y="1143000"/>
                <a:chExt cx="838080" cy="19810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219320" y="1143000"/>
                  <a:ext cx="0" cy="19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1219320" y="1295280"/>
                  <a:ext cx="8380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060280" y="1297080"/>
                <a:ext cx="784800" cy="18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819520" y="121896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457200" y="838080"/>
                <a:ext cx="3352680" cy="2822040"/>
                <a:chOff x="457200" y="838080"/>
                <a:chExt cx="3352680" cy="28220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62120" y="8380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28800" y="9144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895480" y="99036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57200" y="32004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066680" y="320040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666880" y="32004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352680" y="32004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4" name=""/>
          <p:cNvSpPr/>
          <p:nvPr/>
        </p:nvSpPr>
        <p:spPr>
          <a:xfrm>
            <a:off x="3809880" y="1752480"/>
            <a:ext cx="4876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F = ∠B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D = ∠CFG = 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3809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找出图中相等的角并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952880" y="457200"/>
            <a:ext cx="3200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找一找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219320" y="5791320"/>
            <a:ext cx="5790960" cy="56808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1098720" y="2438280"/>
            <a:ext cx="853200" cy="835920"/>
            <a:chOff x="1098720" y="2438280"/>
            <a:chExt cx="853200" cy="835920"/>
          </a:xfrm>
        </p:grpSpPr>
        <p:sp>
          <p:nvSpPr>
            <p:cNvPr id="499" name=""/>
            <p:cNvSpPr/>
            <p:nvPr/>
          </p:nvSpPr>
          <p:spPr>
            <a:xfrm rot="7426200">
              <a:off x="1251360" y="2606400"/>
              <a:ext cx="45900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9" y="16099"/>
                  </a:moveTo>
                  <a:arcTo wR="10800" hR="10800" stAng="9037014" swAng="7671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9" y="16099"/>
                  </a:moveTo>
                  <a:arcTo wR="10800" hR="10800" stAng="9037014" swAng="7671227"/>
                </a:path>
              </a:pathLst>
            </a:custGeom>
            <a:noFill/>
            <a:ln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2000" y="243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122560" y="2425680"/>
            <a:ext cx="690480" cy="853920"/>
            <a:chOff x="2122560" y="2425680"/>
            <a:chExt cx="690480" cy="853920"/>
          </a:xfrm>
        </p:grpSpPr>
        <p:sp>
          <p:nvSpPr>
            <p:cNvPr id="502" name=""/>
            <p:cNvSpPr/>
            <p:nvPr/>
          </p:nvSpPr>
          <p:spPr>
            <a:xfrm>
              <a:off x="2354040" y="2666880"/>
              <a:ext cx="45900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9" y="16099"/>
                  </a:moveTo>
                  <a:arcTo wR="10800" hR="10800" stAng="9037014" swAng="7671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9" y="16099"/>
                  </a:moveTo>
                  <a:arcTo wR="10800" hR="10800" stAng="9037014" swAng="7671227"/>
                </a:path>
              </a:pathLst>
            </a:custGeom>
            <a:noFill/>
            <a:ln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22560" y="242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87600" y="2514600"/>
            <a:ext cx="532440" cy="608400"/>
            <a:chOff x="687600" y="2514600"/>
            <a:chExt cx="532440" cy="608400"/>
          </a:xfrm>
        </p:grpSpPr>
        <p:grpSp>
          <p:nvGrpSpPr>
            <p:cNvPr id="505" name=""/>
            <p:cNvGrpSpPr/>
            <p:nvPr/>
          </p:nvGrpSpPr>
          <p:grpSpPr>
            <a:xfrm>
              <a:off x="990000" y="2894400"/>
              <a:ext cx="230040" cy="228600"/>
              <a:chOff x="990000" y="2894400"/>
              <a:chExt cx="230040" cy="228600"/>
            </a:xfrm>
          </p:grpSpPr>
          <p:sp>
            <p:nvSpPr>
              <p:cNvPr id="506" name=""/>
              <p:cNvSpPr/>
              <p:nvPr/>
            </p:nvSpPr>
            <p:spPr>
              <a:xfrm flipV="1">
                <a:off x="990000" y="2894400"/>
                <a:ext cx="1440" cy="228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1440" y="2894400"/>
                <a:ext cx="228600" cy="14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687600" y="251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819520" y="2514600"/>
            <a:ext cx="505800" cy="609480"/>
            <a:chOff x="2819520" y="2514600"/>
            <a:chExt cx="505800" cy="609480"/>
          </a:xfrm>
        </p:grpSpPr>
        <p:grpSp>
          <p:nvGrpSpPr>
            <p:cNvPr id="510" name=""/>
            <p:cNvGrpSpPr/>
            <p:nvPr/>
          </p:nvGrpSpPr>
          <p:grpSpPr>
            <a:xfrm>
              <a:off x="2819520" y="2895480"/>
              <a:ext cx="228240" cy="228600"/>
              <a:chOff x="2819520" y="2895480"/>
              <a:chExt cx="228240" cy="228600"/>
            </a:xfrm>
          </p:grpSpPr>
          <p:sp>
            <p:nvSpPr>
              <p:cNvPr id="511" name=""/>
              <p:cNvSpPr/>
              <p:nvPr/>
            </p:nvSpPr>
            <p:spPr>
              <a:xfrm>
                <a:off x="2819520" y="2895480"/>
                <a:ext cx="2282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47760" y="2895480"/>
                <a:ext cx="0" cy="228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971440" y="251460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067400" y="2209680"/>
            <a:ext cx="452880" cy="609480"/>
            <a:chOff x="1067400" y="2209680"/>
            <a:chExt cx="452880" cy="609480"/>
          </a:xfrm>
        </p:grpSpPr>
        <p:sp>
          <p:nvSpPr>
            <p:cNvPr id="515" name=""/>
            <p:cNvSpPr/>
            <p:nvPr/>
          </p:nvSpPr>
          <p:spPr>
            <a:xfrm>
              <a:off x="1170360" y="2209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67400" y="2666880"/>
              <a:ext cx="30384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514600" y="2209680"/>
            <a:ext cx="456840" cy="609480"/>
            <a:chOff x="2514600" y="2209680"/>
            <a:chExt cx="456840" cy="609480"/>
          </a:xfrm>
        </p:grpSpPr>
        <p:sp>
          <p:nvSpPr>
            <p:cNvPr id="518" name=""/>
            <p:cNvSpPr/>
            <p:nvPr/>
          </p:nvSpPr>
          <p:spPr>
            <a:xfrm flipH="1">
              <a:off x="2666880" y="2666880"/>
              <a:ext cx="3045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1460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2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7 C 0.06111 -0.00301 0.12257 -0.00555 0.1448 0.01711 C 0.16736 0.04023 0.13073 0.11214 0.13351 0.13919 C 0.13629 0.16647 0.15695 0.17341 0.16164 0.18035 E">
                                      <p:cBhvr>
                                        <p:cTn id="1110" dur="5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11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8 7.51445E-007 C -0.08281 0.00763 -0.09166 0.01618 -0.0927 0.04116 C -0.0934 0.06682 -0.08107 0.12578 -0.07968 0.15168 C -0.07847 0.17896 -0.08368 0.19144 -0.08472 0.20324 E">
                                      <p:cBhvr>
                                        <p:cTn id="1114" dur="5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11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7283E-006 L -0.04219 0.2918 E">
                                      <p:cBhvr>
                                        <p:cTn id="1118" dur="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2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1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3.7037E-007 C 0.03455 0.03032 0.05364 0.06065 0.05677 0.10093 C 0.06024 0.14167 0.04774 0.19236 0.03542 0.24375 E">
                                      <p:cBhvr>
                                        <p:cTn id="1124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6" dur="500" fill="hold"/>
                                        <p:tgtEl>
                                          <p:spTgt spid="46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8" dur="500" fill="hold"/>
                                        <p:tgtEl>
                                          <p:spTgt spid="4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0" dur="500" fill="hold"/>
                                        <p:tgtEl>
                                          <p:spTgt spid="46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2" dur="500" fill="hold"/>
                                        <p:tgtEl>
                                          <p:spTgt spid="4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4" dur="500" fill="hold"/>
                                        <p:tgtEl>
                                          <p:spTgt spid="46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502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3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504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505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6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7"/>
                            </p:stCondLst>
                            <p:childTnLst>
                              <p:par>
                                <p:cTn id="1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7"/>
                            </p:stCondLst>
                            <p:childTnLst>
                              <p:par>
                                <p:cTn id="1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507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507"/>
                            </p:stCondLst>
                            <p:childTnLst>
                              <p:par>
                                <p:cTn id="1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507"/>
                            </p:stCondLst>
                            <p:childTnLst>
                              <p:par>
                                <p:cTn id="12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324480" y="495288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3625920" y="2843280"/>
            <a:ext cx="961920" cy="1028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rcRect l="0" t="0" r="-16380" b="-643"/>
          <a:stretch/>
        </p:blipFill>
        <p:spPr>
          <a:xfrm rot="20181600">
            <a:off x="3401640" y="2663640"/>
            <a:ext cx="630360" cy="4507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 rot="405600">
            <a:off x="4346280" y="2664000"/>
            <a:ext cx="247680" cy="5238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 rot="21474000">
            <a:off x="3897360" y="2528640"/>
            <a:ext cx="590400" cy="314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rcRect l="0" t="0" r="-1031" b="0"/>
          <a:stretch/>
        </p:blipFill>
        <p:spPr>
          <a:xfrm rot="450600">
            <a:off x="3897000" y="2708280"/>
            <a:ext cx="360360" cy="495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2424240" y="3747960"/>
            <a:ext cx="104760" cy="2286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2997360" y="4599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5651640" y="3833640"/>
            <a:ext cx="171360" cy="669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2502000" y="3743280"/>
            <a:ext cx="180720" cy="572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>
            <a:off x="5562720" y="3564000"/>
            <a:ext cx="314280" cy="856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3595680" y="1685880"/>
            <a:ext cx="1844640" cy="1708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3176640" y="24955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812000" y="5734080"/>
            <a:ext cx="936720" cy="574560"/>
          </a:xfrm>
          <a:custGeom>
            <a:avLst/>
            <a:gdLst>
              <a:gd name="textAreaLeft" fmla="*/ 163800 w 936720"/>
              <a:gd name="textAreaRight" fmla="*/ 679320 w 9367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C= ∠BOC=∠DOE=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与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余的角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与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余的角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有与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补的角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4"/>
          <a:stretch/>
        </p:blipFill>
        <p:spPr>
          <a:xfrm>
            <a:off x="2743200" y="3581280"/>
            <a:ext cx="3733920" cy="23083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5410080" y="1143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12000" y="1125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∠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18939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∠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43600" y="2666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 rot="5400000">
            <a:off x="-381240" y="91440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79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2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7 C 0.06111 -0.00301 0.12257 -0.00555 0.1448 0.01711 C 0.16736 0.04023 0.13073 0.11214 0.13351 0.13919 C 0.13629 0.16647 0.15695 0.17341 0.16164 0.18035 E">
                                      <p:cBhvr>
                                        <p:cTn id="127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127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8 7.51445E-007 C -0.08281 0.00763 -0.09166 0.01618 -0.0927 0.04116 C -0.0934 0.06682 -0.08107 0.12578 -0.07968 0.15168 C -0.07847 0.17896 -0.08368 0.19144 -0.08472 0.20324 E">
                                      <p:cBhvr>
                                        <p:cTn id="1275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7283E-006 L -0.04219 0.2918 E">
                                      <p:cBhvr>
                                        <p:cTn id="1279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3.7037E-007 C 0.03455 0.03032 0.05364 0.06065 0.05677 0.10093 C 0.06024 0.14167 0.04774 0.19236 0.03542 0.24375 E">
                                      <p:cBhvr>
                                        <p:cTn id="1285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7" dur="500" fill="hold"/>
                                        <p:tgtEl>
                                          <p:spTgt spid="52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2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9" dur="500" fill="hold"/>
                                        <p:tgtEl>
                                          <p:spTgt spid="52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500" fill="hold"/>
                                        <p:tgtEl>
                                          <p:spTgt spid="52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3" dur="500" fill="hold"/>
                                        <p:tgtEl>
                                          <p:spTgt spid="5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5" dur="500" fill="hold"/>
                                        <p:tgtEl>
                                          <p:spTgt spid="52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2"/>
                            </p:stCondLst>
                            <p:childTnLst>
                              <p:par>
                                <p:cTn id="1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3"/>
                            </p:stCondLst>
                            <p:childTnLst>
                              <p:par>
                                <p:cTn id="1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504"/>
                            </p:stCondLst>
                            <p:childTnLst>
                              <p:par>
                                <p:cTn id="1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505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6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7"/>
                            </p:stCondLst>
                            <p:childTnLst>
                              <p:par>
                                <p:cTn id="13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7"/>
                            </p:stCondLst>
                            <p:childTnLst>
                              <p:par>
                                <p:cTn id="1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507"/>
                            </p:stCondLst>
                            <p:childTnLst>
                              <p:par>
                                <p:cTn id="13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4507"/>
                            </p:stCondLst>
                            <p:childTnLst>
                              <p:par>
                                <p:cTn id="136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34340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286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赏意大利名胜比萨斜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733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533520" y="609480"/>
          <a:ext cx="8153280" cy="5918040"/>
        </p:xfrm>
        <a:graphic>
          <a:graphicData uri="http://schemas.openxmlformats.org/drawingml/2006/table">
            <a:tbl>
              <a:tblPr/>
              <a:tblGrid>
                <a:gridCol w="1676520"/>
                <a:gridCol w="3216240"/>
                <a:gridCol w="3260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互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互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角间的数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关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90920" y="3011400"/>
            <a:ext cx="2352600" cy="20671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5562720" y="3060720"/>
            <a:ext cx="3047760" cy="1692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2438280" y="1295280"/>
            <a:ext cx="2743200" cy="6368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562720" y="1295280"/>
            <a:ext cx="2941560" cy="636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14600" y="525780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角或等角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余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52578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角或等角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补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6600" y="-82440"/>
            <a:ext cx="2090520" cy="1292040"/>
            <a:chOff x="66600" y="-82440"/>
            <a:chExt cx="2090520" cy="1292040"/>
          </a:xfrm>
        </p:grpSpPr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6600" y="-82440"/>
              <a:ext cx="20905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692280" y="373320"/>
              <a:ext cx="9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" descr=""/>
          <p:cNvPicPr/>
          <p:nvPr/>
        </p:nvPicPr>
        <p:blipFill>
          <a:blip r:embed="rId6"/>
          <a:stretch/>
        </p:blipFill>
        <p:spPr>
          <a:xfrm>
            <a:off x="2209680" y="1905120"/>
            <a:ext cx="3102120" cy="7156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7"/>
          <a:stretch/>
        </p:blipFill>
        <p:spPr>
          <a:xfrm>
            <a:off x="5410080" y="1905120"/>
            <a:ext cx="333864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681120" cy="474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669960" y="162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0" y="-987480"/>
            <a:ext cx="9448920" cy="883620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14400" y="1468440"/>
            <a:ext cx="7300440" cy="970920"/>
            <a:chOff x="14400" y="1468440"/>
            <a:chExt cx="7300440" cy="970920"/>
          </a:xfrm>
        </p:grpSpPr>
        <p:sp>
          <p:nvSpPr>
            <p:cNvPr id="558" name=""/>
            <p:cNvSpPr/>
            <p:nvPr/>
          </p:nvSpPr>
          <p:spPr>
            <a:xfrm>
              <a:off x="820800" y="1524960"/>
              <a:ext cx="64940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互余、互补是两角之间的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数量关系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只与他们的度数和有关，与位置无关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14400" y="1468440"/>
              <a:ext cx="1025280" cy="970920"/>
              <a:chOff x="14400" y="1468440"/>
              <a:chExt cx="1025280" cy="970920"/>
            </a:xfrm>
          </p:grpSpPr>
          <p:pic>
            <p:nvPicPr>
              <p:cNvPr id="560" name="圆角矩形 6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1468440"/>
                <a:ext cx="1025280" cy="9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Box 61"/>
              <p:cNvSpPr/>
              <p:nvPr/>
            </p:nvSpPr>
            <p:spPr>
              <a:xfrm>
                <a:off x="343080" y="1737360"/>
                <a:ext cx="40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0" y="2590920"/>
            <a:ext cx="4773240" cy="950760"/>
            <a:chOff x="0" y="2590920"/>
            <a:chExt cx="4773240" cy="950760"/>
          </a:xfrm>
        </p:grpSpPr>
        <p:sp>
          <p:nvSpPr>
            <p:cNvPr id="563" name=""/>
            <p:cNvSpPr/>
            <p:nvPr/>
          </p:nvSpPr>
          <p:spPr>
            <a:xfrm>
              <a:off x="3056040" y="2786040"/>
              <a:ext cx="171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互余、互补概念中的角是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成对出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0" y="2590920"/>
              <a:ext cx="950760" cy="950760"/>
              <a:chOff x="0" y="2590920"/>
              <a:chExt cx="950760" cy="950760"/>
            </a:xfrm>
          </p:grpSpPr>
          <p:pic>
            <p:nvPicPr>
              <p:cNvPr id="565" name="圆角矩形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590920"/>
                <a:ext cx="950760" cy="9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Box 61"/>
              <p:cNvSpPr/>
              <p:nvPr/>
            </p:nvSpPr>
            <p:spPr>
              <a:xfrm>
                <a:off x="291960" y="2867040"/>
                <a:ext cx="37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0" y="4495680"/>
            <a:ext cx="2727360" cy="950760"/>
            <a:chOff x="0" y="4495680"/>
            <a:chExt cx="2727360" cy="950760"/>
          </a:xfrm>
        </p:grpSpPr>
        <p:sp>
          <p:nvSpPr>
            <p:cNvPr id="568" name=""/>
            <p:cNvSpPr/>
            <p:nvPr/>
          </p:nvSpPr>
          <p:spPr>
            <a:xfrm>
              <a:off x="2279880" y="46479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只有锐角才有余角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0" y="4495680"/>
              <a:ext cx="950760" cy="950760"/>
              <a:chOff x="0" y="4495680"/>
              <a:chExt cx="950760" cy="950760"/>
            </a:xfrm>
          </p:grpSpPr>
          <p:pic>
            <p:nvPicPr>
              <p:cNvPr id="570" name="圆角矩形 9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4495680"/>
                <a:ext cx="950760" cy="9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TextBox 61"/>
              <p:cNvSpPr/>
              <p:nvPr/>
            </p:nvSpPr>
            <p:spPr>
              <a:xfrm>
                <a:off x="291960" y="4800600"/>
                <a:ext cx="3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380880" y="514080"/>
            <a:ext cx="1980720" cy="1151280"/>
            <a:chOff x="380880" y="514080"/>
            <a:chExt cx="1980720" cy="1151280"/>
          </a:xfrm>
        </p:grpSpPr>
        <p:grpSp>
          <p:nvGrpSpPr>
            <p:cNvPr id="573" name=""/>
            <p:cNvGrpSpPr/>
            <p:nvPr/>
          </p:nvGrpSpPr>
          <p:grpSpPr>
            <a:xfrm>
              <a:off x="380880" y="514080"/>
              <a:ext cx="1980720" cy="1151280"/>
              <a:chOff x="380880" y="514080"/>
              <a:chExt cx="1980720" cy="1151280"/>
            </a:xfrm>
          </p:grpSpPr>
          <p:pic>
            <p:nvPicPr>
              <p:cNvPr id="574" name="Oval 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0880" y="533520"/>
                <a:ext cx="1980720" cy="113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椭圆 37"/>
              <p:cNvSpPr/>
              <p:nvPr/>
            </p:nvSpPr>
            <p:spPr>
              <a:xfrm rot="20271600">
                <a:off x="638640" y="687240"/>
                <a:ext cx="996480" cy="387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67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81200" y="629280"/>
                <a:ext cx="1196640" cy="730440"/>
                <a:chOff x="781200" y="629280"/>
                <a:chExt cx="1196640" cy="730440"/>
              </a:xfrm>
            </p:grpSpPr>
            <p:pic>
              <p:nvPicPr>
                <p:cNvPr id="577" name="椭圆 39" descr=""/>
                <p:cNvPicPr/>
                <p:nvPr/>
              </p:nvPicPr>
              <p:blipFill>
                <a:blip r:embed="rId7"/>
                <a:stretch/>
              </p:blipFill>
              <p:spPr>
                <a:xfrm rot="21403800">
                  <a:off x="799200" y="661680"/>
                  <a:ext cx="1160640" cy="66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"/>
                <p:cNvSpPr/>
                <p:nvPr/>
              </p:nvSpPr>
              <p:spPr>
                <a:xfrm rot="21403800">
                  <a:off x="972360" y="763200"/>
                  <a:ext cx="814680" cy="46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"/>
            <p:cNvSpPr/>
            <p:nvPr/>
          </p:nvSpPr>
          <p:spPr>
            <a:xfrm>
              <a:off x="709200" y="762120"/>
              <a:ext cx="134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注意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0" y="3352680"/>
            <a:ext cx="6821280" cy="1193760"/>
            <a:chOff x="0" y="3352680"/>
            <a:chExt cx="6821280" cy="1193760"/>
          </a:xfrm>
        </p:grpSpPr>
        <p:grpSp>
          <p:nvGrpSpPr>
            <p:cNvPr id="581" name=""/>
            <p:cNvGrpSpPr/>
            <p:nvPr/>
          </p:nvGrpSpPr>
          <p:grpSpPr>
            <a:xfrm>
              <a:off x="0" y="3352680"/>
              <a:ext cx="6821280" cy="1185840"/>
              <a:chOff x="0" y="3352680"/>
              <a:chExt cx="6821280" cy="118584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1157040" y="3484440"/>
                <a:ext cx="5664240" cy="538200"/>
                <a:chOff x="1157040" y="3484440"/>
                <a:chExt cx="5664240" cy="538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421280" y="3502080"/>
                  <a:ext cx="3681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角    的余角是           ，补角是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7040" y="3595680"/>
                  <a:ext cx="3812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973240" y="3484440"/>
                  <a:ext cx="1143000" cy="482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321160" y="3485880"/>
                  <a:ext cx="1500120" cy="528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7" name=""/>
              <p:cNvSpPr/>
              <p:nvPr/>
            </p:nvSpPr>
            <p:spPr>
              <a:xfrm>
                <a:off x="2693160" y="4017960"/>
                <a:ext cx="59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同一个锐角的补角比余角大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0" y="3352680"/>
                <a:ext cx="950760" cy="950760"/>
                <a:chOff x="0" y="3352680"/>
                <a:chExt cx="950760" cy="950760"/>
              </a:xfrm>
            </p:grpSpPr>
            <p:pic>
              <p:nvPicPr>
                <p:cNvPr id="589" name="圆角矩形 8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0" y="3352680"/>
                  <a:ext cx="950760" cy="95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0" name="TextBox 61"/>
                <p:cNvSpPr/>
                <p:nvPr/>
              </p:nvSpPr>
              <p:spPr>
                <a:xfrm>
                  <a:off x="289080" y="3639960"/>
                  <a:ext cx="379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91" name="" descr=""/>
            <p:cNvPicPr/>
            <p:nvPr/>
          </p:nvPicPr>
          <p:blipFill>
            <a:blip r:embed="rId12"/>
            <a:stretch/>
          </p:blipFill>
          <p:spPr>
            <a:xfrm>
              <a:off x="5105520" y="4038480"/>
              <a:ext cx="73008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0" y="5181480"/>
            <a:ext cx="4358160" cy="1130040"/>
            <a:chOff x="0" y="5181480"/>
            <a:chExt cx="4358160" cy="1130040"/>
          </a:xfrm>
        </p:grpSpPr>
        <p:grpSp>
          <p:nvGrpSpPr>
            <p:cNvPr id="593" name=""/>
            <p:cNvGrpSpPr/>
            <p:nvPr/>
          </p:nvGrpSpPr>
          <p:grpSpPr>
            <a:xfrm>
              <a:off x="0" y="5181480"/>
              <a:ext cx="952560" cy="950760"/>
              <a:chOff x="0" y="5181480"/>
              <a:chExt cx="952560" cy="950760"/>
            </a:xfrm>
          </p:grpSpPr>
          <p:pic>
            <p:nvPicPr>
              <p:cNvPr id="594" name="圆角矩形 87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5181480"/>
                <a:ext cx="952560" cy="9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331560" y="5486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617120" y="533376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同角的余角（补角）相等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17120" y="579096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等角的余角（补角）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0492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C= ∠BOC=∠DOE=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与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余的角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与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余的角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有与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补的角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267440" cy="26384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5410080" y="1143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12000" y="1125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∠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10080" y="18939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∠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943600" y="2666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 rot="5400000">
            <a:off x="-381240" y="91440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79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6934320" y="4800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2" dur="1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33" dur="1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34" dur="1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5100120" y="2819520"/>
            <a:ext cx="3815280" cy="2440800"/>
            <a:chOff x="5100120" y="2819520"/>
            <a:chExt cx="3815280" cy="2440800"/>
          </a:xfrm>
        </p:grpSpPr>
        <p:pic>
          <p:nvPicPr>
            <p:cNvPr id="608" name="" descr=""/>
            <p:cNvPicPr/>
            <p:nvPr/>
          </p:nvPicPr>
          <p:blipFill>
            <a:blip r:embed="rId1"/>
            <a:stretch/>
          </p:blipFill>
          <p:spPr>
            <a:xfrm>
              <a:off x="5181840" y="3048120"/>
              <a:ext cx="373356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8382600" y="480060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00120" y="48006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01000" y="2971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05520" y="36576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4576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80060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533520" y="1523880"/>
            <a:ext cx="8229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已知，点在同一直线上，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为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角平分线，找图中互余和互补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4038480" cy="33656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914400" y="60948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动动脑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25909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619" name=""/>
          <p:cNvGrpSpPr/>
          <p:nvPr/>
        </p:nvGrpSpPr>
        <p:grpSpPr>
          <a:xfrm>
            <a:off x="730080" y="1828800"/>
            <a:ext cx="7758000" cy="1479600"/>
            <a:chOff x="730080" y="1828800"/>
            <a:chExt cx="7758000" cy="1479600"/>
          </a:xfrm>
        </p:grpSpPr>
        <p:pic>
          <p:nvPicPr>
            <p:cNvPr id="620" name="" descr=""/>
            <p:cNvPicPr/>
            <p:nvPr/>
          </p:nvPicPr>
          <p:blipFill>
            <a:blip r:embed="rId2"/>
            <a:stretch/>
          </p:blipFill>
          <p:spPr>
            <a:xfrm>
              <a:off x="730080" y="1828800"/>
              <a:ext cx="77580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3"/>
            <a:stretch/>
          </p:blipFill>
          <p:spPr>
            <a:xfrm>
              <a:off x="1066680" y="2666880"/>
              <a:ext cx="5181480" cy="64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2514600" y="3962520"/>
            <a:ext cx="4448160" cy="5936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5715000" y="4495680"/>
            <a:ext cx="1092240" cy="5461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1066680" y="3352680"/>
            <a:ext cx="4168800" cy="595440"/>
          </a:xfrm>
          <a:prstGeom prst="rect">
            <a:avLst/>
          </a:prstGeom>
          <a:ln w="0">
            <a:noFill/>
          </a:ln>
        </p:spPr>
      </p:pic>
      <p:grpSp>
        <p:nvGrpSpPr>
          <p:cNvPr id="625" name=""/>
          <p:cNvGrpSpPr/>
          <p:nvPr/>
        </p:nvGrpSpPr>
        <p:grpSpPr>
          <a:xfrm>
            <a:off x="2514600" y="5029200"/>
            <a:ext cx="3352680" cy="1165320"/>
            <a:chOff x="2514600" y="5029200"/>
            <a:chExt cx="3352680" cy="1165320"/>
          </a:xfrm>
        </p:grpSpPr>
        <p:pic>
          <p:nvPicPr>
            <p:cNvPr id="626" name="" descr=""/>
            <p:cNvPicPr/>
            <p:nvPr/>
          </p:nvPicPr>
          <p:blipFill>
            <a:blip r:embed="rId7"/>
            <a:stretch/>
          </p:blipFill>
          <p:spPr>
            <a:xfrm>
              <a:off x="2514600" y="5029200"/>
              <a:ext cx="335268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8"/>
            <a:stretch/>
          </p:blipFill>
          <p:spPr>
            <a:xfrm>
              <a:off x="2819520" y="5638680"/>
              <a:ext cx="2985840" cy="5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 txBox="1"/>
          <p:nvPr/>
        </p:nvSpPr>
        <p:spPr>
          <a:xfrm>
            <a:off x="457200" y="6094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测一测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4" dur="1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5" dur="1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6" dur="1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343400" cy="556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6019920"/>
            <a:ext cx="2590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54280" y="496800"/>
            <a:ext cx="0" cy="556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666880" y="533520"/>
            <a:ext cx="533520" cy="5486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666880" y="457200"/>
            <a:ext cx="2592360" cy="5562720"/>
            <a:chOff x="2666880" y="457200"/>
            <a:chExt cx="2592360" cy="5562720"/>
          </a:xfrm>
        </p:grpSpPr>
        <p:sp>
          <p:nvSpPr>
            <p:cNvPr id="52" name=""/>
            <p:cNvSpPr/>
            <p:nvPr/>
          </p:nvSpPr>
          <p:spPr>
            <a:xfrm>
              <a:off x="2668320" y="5978520"/>
              <a:ext cx="2590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666880" y="457200"/>
              <a:ext cx="0" cy="556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668320" y="492120"/>
              <a:ext cx="533520" cy="5486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715360" y="3103560"/>
            <a:ext cx="540720" cy="781920"/>
            <a:chOff x="5715360" y="3103560"/>
            <a:chExt cx="540720" cy="781920"/>
          </a:xfrm>
        </p:grpSpPr>
        <p:sp>
          <p:nvSpPr>
            <p:cNvPr id="56" name=""/>
            <p:cNvSpPr/>
            <p:nvPr/>
          </p:nvSpPr>
          <p:spPr>
            <a:xfrm>
              <a:off x="5715360" y="3733920"/>
              <a:ext cx="45648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02200" y="310356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15360" y="5257800"/>
            <a:ext cx="887040" cy="990360"/>
            <a:chOff x="5715360" y="5257800"/>
            <a:chExt cx="887040" cy="990360"/>
          </a:xfrm>
        </p:grpSpPr>
        <p:sp>
          <p:nvSpPr>
            <p:cNvPr id="59" name=""/>
            <p:cNvSpPr/>
            <p:nvPr/>
          </p:nvSpPr>
          <p:spPr>
            <a:xfrm>
              <a:off x="5715360" y="5638680"/>
              <a:ext cx="609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8520" y="525780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429000" cy="419076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914400" y="1523880"/>
            <a:ext cx="5180400" cy="718920"/>
            <a:chOff x="914400" y="1523880"/>
            <a:chExt cx="5180400" cy="71892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914400" y="1523880"/>
              <a:ext cx="684360" cy="62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"/>
            <p:cNvGrpSpPr/>
            <p:nvPr/>
          </p:nvGrpSpPr>
          <p:grpSpPr>
            <a:xfrm>
              <a:off x="1384560" y="1523880"/>
              <a:ext cx="4710240" cy="718920"/>
              <a:chOff x="1384560" y="1523880"/>
              <a:chExt cx="4710240" cy="718920"/>
            </a:xfrm>
          </p:grpSpPr>
          <p:sp>
            <p:nvSpPr>
              <p:cNvPr id="65" name=""/>
              <p:cNvSpPr/>
              <p:nvPr/>
            </p:nvSpPr>
            <p:spPr>
              <a:xfrm>
                <a:off x="1384560" y="1600200"/>
                <a:ext cx="471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和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有什么关系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57480" y="1523880"/>
                <a:ext cx="684360" cy="62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19981E-006 L 0.35834 4.19981E-006 E">
                                      <p:cBhvr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715360" y="457200"/>
            <a:ext cx="1904760" cy="5790960"/>
            <a:chOff x="5715360" y="457200"/>
            <a:chExt cx="1904760" cy="5790960"/>
          </a:xfrm>
        </p:grpSpPr>
        <p:sp>
          <p:nvSpPr>
            <p:cNvPr id="68" name=""/>
            <p:cNvSpPr/>
            <p:nvPr/>
          </p:nvSpPr>
          <p:spPr>
            <a:xfrm flipV="1">
              <a:off x="5908680" y="5943240"/>
              <a:ext cx="1711440" cy="1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715360" y="5257800"/>
              <a:ext cx="887040" cy="990360"/>
              <a:chOff x="5715360" y="5257800"/>
              <a:chExt cx="887040" cy="990360"/>
            </a:xfrm>
          </p:grpSpPr>
          <p:sp>
            <p:nvSpPr>
              <p:cNvPr id="70" name=""/>
              <p:cNvSpPr/>
              <p:nvPr/>
            </p:nvSpPr>
            <p:spPr>
              <a:xfrm>
                <a:off x="5715360" y="5638680"/>
                <a:ext cx="609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48520" y="5257800"/>
                <a:ext cx="35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flipV="1">
              <a:off x="5943600" y="457200"/>
              <a:ext cx="533520" cy="5486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15360" y="398520"/>
            <a:ext cx="761400" cy="5562720"/>
            <a:chOff x="5715360" y="398520"/>
            <a:chExt cx="761400" cy="5562720"/>
          </a:xfrm>
        </p:grpSpPr>
        <p:sp>
          <p:nvSpPr>
            <p:cNvPr id="74" name=""/>
            <p:cNvSpPr/>
            <p:nvPr/>
          </p:nvSpPr>
          <p:spPr>
            <a:xfrm flipV="1">
              <a:off x="5943600" y="398520"/>
              <a:ext cx="0" cy="556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943600" y="474840"/>
              <a:ext cx="533160" cy="5486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715360" y="3121200"/>
              <a:ext cx="540720" cy="781920"/>
              <a:chOff x="5715360" y="3121200"/>
              <a:chExt cx="540720" cy="781920"/>
            </a:xfrm>
          </p:grpSpPr>
          <p:sp>
            <p:nvSpPr>
              <p:cNvPr id="77" name=""/>
              <p:cNvSpPr/>
              <p:nvPr/>
            </p:nvSpPr>
            <p:spPr>
              <a:xfrm>
                <a:off x="5715360" y="375156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902200" y="3121200"/>
                <a:ext cx="35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3429000" cy="419076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914400" y="1523880"/>
            <a:ext cx="5180400" cy="718920"/>
            <a:chOff x="914400" y="1523880"/>
            <a:chExt cx="5180400" cy="71892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914400" y="1523880"/>
              <a:ext cx="684360" cy="62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384560" y="1523880"/>
              <a:ext cx="4710240" cy="718920"/>
              <a:chOff x="1384560" y="1523880"/>
              <a:chExt cx="4710240" cy="718920"/>
            </a:xfrm>
          </p:grpSpPr>
          <p:sp>
            <p:nvSpPr>
              <p:cNvPr id="83" name=""/>
              <p:cNvSpPr/>
              <p:nvPr/>
            </p:nvSpPr>
            <p:spPr>
              <a:xfrm>
                <a:off x="1384560" y="1600200"/>
                <a:ext cx="471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和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有什么关系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57480" y="1523880"/>
                <a:ext cx="684360" cy="62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7804E-006 L 0.08524 -0.00116 E">
                                      <p:cBhvr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34340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019920"/>
            <a:ext cx="5029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28800" y="457200"/>
            <a:ext cx="533520" cy="556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4920" y="457200"/>
            <a:ext cx="5029200" cy="5562720"/>
            <a:chOff x="304920" y="457200"/>
            <a:chExt cx="5029200" cy="5562720"/>
          </a:xfrm>
        </p:grpSpPr>
        <p:sp>
          <p:nvSpPr>
            <p:cNvPr id="89" name=""/>
            <p:cNvSpPr/>
            <p:nvPr/>
          </p:nvSpPr>
          <p:spPr>
            <a:xfrm>
              <a:off x="304920" y="6019920"/>
              <a:ext cx="5029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828800" y="457200"/>
              <a:ext cx="533520" cy="556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553440" y="5334120"/>
            <a:ext cx="761040" cy="990360"/>
            <a:chOff x="6553440" y="5334120"/>
            <a:chExt cx="761040" cy="990360"/>
          </a:xfrm>
        </p:grpSpPr>
        <p:sp>
          <p:nvSpPr>
            <p:cNvPr id="92" name=""/>
            <p:cNvSpPr/>
            <p:nvPr/>
          </p:nvSpPr>
          <p:spPr>
            <a:xfrm>
              <a:off x="6553440" y="5715000"/>
              <a:ext cx="4564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35760" y="5334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956200" y="5257800"/>
            <a:ext cx="1167840" cy="1218960"/>
            <a:chOff x="5956200" y="5257800"/>
            <a:chExt cx="1167840" cy="1218960"/>
          </a:xfrm>
        </p:grpSpPr>
        <p:sp>
          <p:nvSpPr>
            <p:cNvPr id="95" name=""/>
            <p:cNvSpPr/>
            <p:nvPr/>
          </p:nvSpPr>
          <p:spPr>
            <a:xfrm flipH="1">
              <a:off x="6337080" y="5562720"/>
              <a:ext cx="7869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56200" y="5257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9480" y="4343400"/>
            <a:ext cx="5168520" cy="718920"/>
            <a:chOff x="609480" y="4343400"/>
            <a:chExt cx="5168520" cy="71892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09480" y="4343400"/>
              <a:ext cx="684360" cy="62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1066680" y="4343400"/>
              <a:ext cx="4711320" cy="718920"/>
              <a:chOff x="1066680" y="4343400"/>
              <a:chExt cx="4711320" cy="718920"/>
            </a:xfrm>
          </p:grpSpPr>
          <p:sp>
            <p:nvSpPr>
              <p:cNvPr id="100" name=""/>
              <p:cNvSpPr/>
              <p:nvPr/>
            </p:nvSpPr>
            <p:spPr>
              <a:xfrm>
                <a:off x="1066680" y="4419720"/>
                <a:ext cx="471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和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有什么关系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9600" y="4343400"/>
                <a:ext cx="684360" cy="62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14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161E-006 L 0.53733 -0.00139 E">
                                      <p:cBhvr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200560" y="493200"/>
            <a:ext cx="2057400" cy="5982480"/>
            <a:chOff x="5200560" y="493200"/>
            <a:chExt cx="2057400" cy="5982480"/>
          </a:xfrm>
        </p:grpSpPr>
        <p:grpSp>
          <p:nvGrpSpPr>
            <p:cNvPr id="104" name=""/>
            <p:cNvGrpSpPr/>
            <p:nvPr/>
          </p:nvGrpSpPr>
          <p:grpSpPr>
            <a:xfrm>
              <a:off x="5200560" y="493200"/>
              <a:ext cx="2057400" cy="5544000"/>
              <a:chOff x="5200560" y="493200"/>
              <a:chExt cx="2057400" cy="55440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00560" y="6037200"/>
                <a:ext cx="15415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6724440" y="493200"/>
                <a:ext cx="533520" cy="5543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56200" y="5257800"/>
              <a:ext cx="1167840" cy="1217880"/>
              <a:chOff x="5956200" y="5257800"/>
              <a:chExt cx="1167840" cy="121788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6337080" y="5562360"/>
                <a:ext cx="786960" cy="91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56200" y="525780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609480" y="4343400"/>
            <a:ext cx="5168520" cy="718920"/>
            <a:chOff x="609480" y="4343400"/>
            <a:chExt cx="5168520" cy="7189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609480" y="4343400"/>
              <a:ext cx="684360" cy="62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1066680" y="4343400"/>
              <a:ext cx="4711320" cy="718920"/>
              <a:chOff x="1066680" y="4343400"/>
              <a:chExt cx="4711320" cy="718920"/>
            </a:xfrm>
          </p:grpSpPr>
          <p:sp>
            <p:nvSpPr>
              <p:cNvPr id="113" name=""/>
              <p:cNvSpPr/>
              <p:nvPr/>
            </p:nvSpPr>
            <p:spPr>
              <a:xfrm>
                <a:off x="1066680" y="4419720"/>
                <a:ext cx="471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和  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有什么关系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9600" y="4343400"/>
                <a:ext cx="684360" cy="62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146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6553800" y="457200"/>
            <a:ext cx="2079000" cy="5867280"/>
            <a:chOff x="6553800" y="457200"/>
            <a:chExt cx="2079000" cy="5867280"/>
          </a:xfrm>
        </p:grpSpPr>
        <p:grpSp>
          <p:nvGrpSpPr>
            <p:cNvPr id="117" name=""/>
            <p:cNvGrpSpPr/>
            <p:nvPr/>
          </p:nvGrpSpPr>
          <p:grpSpPr>
            <a:xfrm>
              <a:off x="6553800" y="5334120"/>
              <a:ext cx="761040" cy="990360"/>
              <a:chOff x="6553800" y="5334120"/>
              <a:chExt cx="761040" cy="990360"/>
            </a:xfrm>
          </p:grpSpPr>
          <p:sp>
            <p:nvSpPr>
              <p:cNvPr id="118" name=""/>
              <p:cNvSpPr/>
              <p:nvPr/>
            </p:nvSpPr>
            <p:spPr>
              <a:xfrm>
                <a:off x="6553800" y="57150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36120" y="5334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705720" y="457200"/>
              <a:ext cx="1927080" cy="5572080"/>
              <a:chOff x="6705720" y="457200"/>
              <a:chExt cx="1927080" cy="55720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6728040" y="457200"/>
                <a:ext cx="533160" cy="5562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705720" y="6019920"/>
                <a:ext cx="1927080" cy="9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00509E-006 L -0.07292 0.00162 E">
                                      <p:cBhvr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301680"/>
            <a:ext cx="9144000" cy="71596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447920" y="1828800"/>
            <a:ext cx="6857640" cy="1557000"/>
            <a:chOff x="1447920" y="1828800"/>
            <a:chExt cx="6857640" cy="1557000"/>
          </a:xfrm>
        </p:grpSpPr>
        <p:sp>
          <p:nvSpPr>
            <p:cNvPr id="125" name=""/>
            <p:cNvSpPr/>
            <p:nvPr/>
          </p:nvSpPr>
          <p:spPr>
            <a:xfrm>
              <a:off x="1526760" y="1828800"/>
              <a:ext cx="677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Arial"/>
                </a:rPr>
                <a:t>余角与补角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7920" y="1828800"/>
              <a:ext cx="650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Arial"/>
                </a:rPr>
                <a:t>余角与补角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-149400"/>
            <a:ext cx="266688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523880" y="2666880"/>
            <a:ext cx="2235240" cy="1752480"/>
            <a:chOff x="1523880" y="2666880"/>
            <a:chExt cx="2235240" cy="1752480"/>
          </a:xfrm>
        </p:grpSpPr>
        <p:grpSp>
          <p:nvGrpSpPr>
            <p:cNvPr id="130" name=""/>
            <p:cNvGrpSpPr/>
            <p:nvPr/>
          </p:nvGrpSpPr>
          <p:grpSpPr>
            <a:xfrm>
              <a:off x="1523880" y="2666880"/>
              <a:ext cx="2235240" cy="1447920"/>
              <a:chOff x="1523880" y="2666880"/>
              <a:chExt cx="2235240" cy="1447920"/>
            </a:xfrm>
          </p:grpSpPr>
          <p:sp>
            <p:nvSpPr>
              <p:cNvPr id="131" name=""/>
              <p:cNvSpPr/>
              <p:nvPr/>
            </p:nvSpPr>
            <p:spPr>
              <a:xfrm>
                <a:off x="1523880" y="4114800"/>
                <a:ext cx="2209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23880" y="2666880"/>
                <a:ext cx="2235240" cy="1447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H="1">
              <a:off x="3200400" y="3809880"/>
              <a:ext cx="1512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132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905120" y="1523880"/>
            <a:ext cx="2472480" cy="2014560"/>
            <a:chOff x="1905120" y="1523880"/>
            <a:chExt cx="2472480" cy="2014560"/>
          </a:xfrm>
        </p:grpSpPr>
        <p:grpSp>
          <p:nvGrpSpPr>
            <p:cNvPr id="136" name=""/>
            <p:cNvGrpSpPr/>
            <p:nvPr/>
          </p:nvGrpSpPr>
          <p:grpSpPr>
            <a:xfrm>
              <a:off x="1905120" y="1523880"/>
              <a:ext cx="2209680" cy="2014560"/>
              <a:chOff x="1905120" y="1523880"/>
              <a:chExt cx="2209680" cy="2014560"/>
            </a:xfrm>
          </p:grpSpPr>
          <p:sp>
            <p:nvSpPr>
              <p:cNvPr id="137" name=""/>
              <p:cNvSpPr/>
              <p:nvPr/>
            </p:nvSpPr>
            <p:spPr>
              <a:xfrm>
                <a:off x="4087800" y="1523880"/>
                <a:ext cx="20880" cy="201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05120" y="2071440"/>
                <a:ext cx="2209680" cy="1447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H="1">
              <a:off x="3810240" y="3062160"/>
              <a:ext cx="56736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9760" y="26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152960" y="4803840"/>
            <a:ext cx="27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就说这两个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95880" y="2984040"/>
            <a:ext cx="2070000" cy="977760"/>
            <a:chOff x="6095880" y="2984040"/>
            <a:chExt cx="2070000" cy="977760"/>
          </a:xfrm>
        </p:grpSpPr>
        <p:sp>
          <p:nvSpPr>
            <p:cNvPr id="143" name=""/>
            <p:cNvSpPr/>
            <p:nvPr/>
          </p:nvSpPr>
          <p:spPr>
            <a:xfrm>
              <a:off x="6095880" y="373356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095880" y="2984040"/>
              <a:ext cx="2070000" cy="74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5720" y="35049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0280" y="3316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807520" y="2313000"/>
            <a:ext cx="2049840" cy="1509120"/>
            <a:chOff x="5807520" y="2313000"/>
            <a:chExt cx="2049840" cy="1509120"/>
          </a:xfrm>
        </p:grpSpPr>
        <p:sp>
          <p:nvSpPr>
            <p:cNvPr id="148" name=""/>
            <p:cNvSpPr/>
            <p:nvPr/>
          </p:nvSpPr>
          <p:spPr>
            <a:xfrm flipV="1">
              <a:off x="6108120" y="3099960"/>
              <a:ext cx="1749240" cy="63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1720" y="231300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00000">
              <a:off x="5882760" y="3289680"/>
              <a:ext cx="45648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0396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656400" y="478800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为余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800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两个角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882880" y="4776840"/>
            <a:ext cx="1752480" cy="556920"/>
            <a:chOff x="2882880" y="4776840"/>
            <a:chExt cx="1752480" cy="556920"/>
          </a:xfrm>
        </p:grpSpPr>
        <p:sp>
          <p:nvSpPr>
            <p:cNvPr id="155" name=""/>
            <p:cNvSpPr/>
            <p:nvPr/>
          </p:nvSpPr>
          <p:spPr>
            <a:xfrm>
              <a:off x="2882880" y="4813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和为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3672000" y="4776840"/>
              <a:ext cx="609480" cy="5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8169840" y="480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638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余的角是否一定是锐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8080" y="563868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楷体_GB2312"/>
              </a:rPr>
              <a:t>想一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5638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余的两个角一定都是锐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5700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要注意……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88622E-006 L 0.04219 -0.08302 E">
                                      <p:cBhvr>
                                        <p:cTn id="16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19981E-006 L 0.05607 -0.07239 C 0.06892 -0.0865 0.07604 -0.10962 0.07604 -0.13252 C 0.07604 -0.15888 0.06892 -0.18178 0.05607 -0.19589 L 3.33333E-006 -0.26642 E"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08973E-006 L -0.14653 -0.0037 E">
                                      <p:cBhvr>
                                        <p:cTn id="17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6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7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00"/>
                            </p:stCondLst>
                            <p:childTnLst>
                              <p:par>
                                <p:cTn id="19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981080" y="1599840"/>
            <a:ext cx="2133720" cy="1828440"/>
            <a:chOff x="1981080" y="1599840"/>
            <a:chExt cx="2133720" cy="1828440"/>
          </a:xfrm>
        </p:grpSpPr>
        <p:grpSp>
          <p:nvGrpSpPr>
            <p:cNvPr id="164" name=""/>
            <p:cNvGrpSpPr/>
            <p:nvPr/>
          </p:nvGrpSpPr>
          <p:grpSpPr>
            <a:xfrm>
              <a:off x="1981080" y="1599840"/>
              <a:ext cx="2133720" cy="1524240"/>
              <a:chOff x="1981080" y="1599840"/>
              <a:chExt cx="2133720" cy="1524240"/>
            </a:xfrm>
          </p:grpSpPr>
          <p:sp>
            <p:nvSpPr>
              <p:cNvPr id="165" name=""/>
              <p:cNvSpPr/>
              <p:nvPr/>
            </p:nvSpPr>
            <p:spPr>
              <a:xfrm flipV="1">
                <a:off x="1981080" y="1599840"/>
                <a:ext cx="152388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81080" y="3124080"/>
                <a:ext cx="2133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34080" y="2819520"/>
              <a:ext cx="3038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6880" y="255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85800" y="1599840"/>
            <a:ext cx="2819520" cy="1828440"/>
            <a:chOff x="685800" y="1599840"/>
            <a:chExt cx="2819520" cy="1828440"/>
          </a:xfrm>
        </p:grpSpPr>
        <p:sp>
          <p:nvSpPr>
            <p:cNvPr id="170" name=""/>
            <p:cNvSpPr/>
            <p:nvPr/>
          </p:nvSpPr>
          <p:spPr>
            <a:xfrm>
              <a:off x="685800" y="312408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981080" y="1599840"/>
              <a:ext cx="152424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752480" y="2819520"/>
              <a:ext cx="104760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53920" y="2438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504120" y="1017720"/>
            <a:ext cx="1600200" cy="1600200"/>
            <a:chOff x="6504120" y="1017720"/>
            <a:chExt cx="1600200" cy="1600200"/>
          </a:xfrm>
        </p:grpSpPr>
        <p:grpSp>
          <p:nvGrpSpPr>
            <p:cNvPr id="175" name=""/>
            <p:cNvGrpSpPr/>
            <p:nvPr/>
          </p:nvGrpSpPr>
          <p:grpSpPr>
            <a:xfrm>
              <a:off x="6504120" y="1017720"/>
              <a:ext cx="1600200" cy="1600200"/>
              <a:chOff x="6504120" y="1017720"/>
              <a:chExt cx="1600200" cy="1600200"/>
            </a:xfrm>
          </p:grpSpPr>
          <p:sp>
            <p:nvSpPr>
              <p:cNvPr id="176" name=""/>
              <p:cNvSpPr/>
              <p:nvPr/>
            </p:nvSpPr>
            <p:spPr>
              <a:xfrm>
                <a:off x="6516720" y="1017720"/>
                <a:ext cx="0" cy="1600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04120" y="2590920"/>
                <a:ext cx="160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16720" y="23893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45320" y="238932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731640" y="204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476760" y="3276720"/>
            <a:ext cx="1600200" cy="1600200"/>
            <a:chOff x="6476760" y="3276720"/>
            <a:chExt cx="1600200" cy="1600200"/>
          </a:xfrm>
        </p:grpSpPr>
        <p:grpSp>
          <p:nvGrpSpPr>
            <p:cNvPr id="182" name=""/>
            <p:cNvGrpSpPr/>
            <p:nvPr/>
          </p:nvGrpSpPr>
          <p:grpSpPr>
            <a:xfrm>
              <a:off x="6476760" y="3276720"/>
              <a:ext cx="1600200" cy="1600200"/>
              <a:chOff x="6476760" y="3276720"/>
              <a:chExt cx="1600200" cy="160020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6476760" y="3289320"/>
                <a:ext cx="160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3760" y="3276720"/>
                <a:ext cx="0" cy="1600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05360" y="328932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6476760" y="3517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707520" y="350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343400" y="4800600"/>
            <a:ext cx="27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就说这两个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480060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为补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2800" y="4827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两个角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895480" y="4800600"/>
            <a:ext cx="1981080" cy="556920"/>
            <a:chOff x="2895480" y="4800600"/>
            <a:chExt cx="1981080" cy="556920"/>
          </a:xfrm>
        </p:grpSpPr>
        <p:sp>
          <p:nvSpPr>
            <p:cNvPr id="192" name=""/>
            <p:cNvSpPr/>
            <p:nvPr/>
          </p:nvSpPr>
          <p:spPr>
            <a:xfrm>
              <a:off x="2895480" y="483696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和为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3672360" y="4800600"/>
              <a:ext cx="918720" cy="5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8398440" y="480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838080" y="563868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楷体_GB2312"/>
              </a:rPr>
              <a:t>想一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楷体_GB2312"/>
              <a:ea typeface="楷体_GB2312"/>
            </a:endParaRPr>
          </a:p>
        </p:txBody>
      </p:sp>
      <p:sp>
        <p:nvSpPr>
          <p:cNvPr id="197" name=""/>
          <p:cNvSpPr/>
          <p:nvPr/>
        </p:nvSpPr>
        <p:spPr>
          <a:xfrm>
            <a:off x="4737600" y="56386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角的补角是否一定是钝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28 C 0.081 0.06527 0.102 0.07193 0.124 0.07193 C 0.149 0.07193 0.169 0.06527 0.183 0.05328 L 0.25 0 E">
                                      <p:cBhvr>
                                        <p:cTn id="25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4209E-006 L 0.00105 -0.10245 E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77" dur="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78" dur="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00"/>
                            </p:stCondLst>
                            <p:childTnLst>
                              <p:par>
                                <p:cTn id="28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4-06-30T01:18:46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a40e0000000000010250600207f7000400038000</vt:lpwstr>
  </property>
  <property fmtid="{D5CDD505-2E9C-101B-9397-08002B2CF9AE}" pid="4" name="Version">
    <vt:r8>1</vt:r8>
  </property>
</Properties>
</file>